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9C9C06-225C-4676-B4E2-3933141AA28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462E01-74E5-4764-BB9C-B39A5BB6CAC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FD547F-7356-4BF0-8C54-4AB9B58FB06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004906-5BF9-4381-B6F1-B4B0799F8C9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8C632D-D160-43D2-A0A0-F667C61ECAD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51DDBC-4239-434B-92E7-7424E581110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BEB93D-4CD2-4CB3-BF75-AF4D3FCF5A8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CED1F8-9233-4207-A099-3CEF0EB5BED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2EB377-0CBD-405E-B4AA-D31079887A5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1ECFFE-4638-43CE-9C41-439CDD9D208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2B2371-DC5E-4A3D-93EA-AC19180531F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86E142-E602-4D68-B4E7-46DB6FD289A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DF8C9F-22B3-449F-A1C4-00F13A6347F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16CF8B-3743-4662-B25A-9AFF61C7F37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D6DFDF-1F2A-4E24-A4ED-FFD20F343E8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003B79-5578-478A-BF75-AF9FAF53415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57A36E-D175-412D-A6C9-9644B35C637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EBAF34-500F-4A61-9D57-1B7F4387EF8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73B782-2588-4BFC-B760-EB55F34BCCE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DEF77B-BA33-4ECA-9406-3C3302C7685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61F6F6-31C9-4CF3-A055-FF567402751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A0459D-02D0-497B-9774-17AEABC0684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4DAA59-086A-4209-BBA6-210BBD29FF4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4D11B5-C02A-4604-8A29-3C01DF77944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2939B3-35EF-4F9C-BDC3-BB64CD48B2A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5E057F-4719-41B0-8CCB-5E853422C0F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2A018B-BD2B-460F-A436-B280D5D458F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FE247E-6ACA-4699-9B39-E45E1C2581F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7448DD-900E-4924-859F-0A5DBA8A090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295A90-48F8-42C9-9355-A7037D01166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4C127A-1653-4BCB-87FD-2315B823D94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0ED5C-3468-4889-A627-622ACED33A1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6C01-331D-4873-821C-9EDDA2FE95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A7C5-0BAD-4EFD-B562-C9691EB3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1C4D-0AD3-4328-86CF-EE4631E2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03404-5072-4B2F-800B-E53E382F7E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7E1C-2507-4C66-B405-2851D985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1455-2BFA-4D6B-843E-6296D0A3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E63A2-1337-4EF3-AB04-93052465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FAF6-F436-42EC-A50A-EF8F26A3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EF4B-3E17-4C43-82AA-9521AA77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E34C-FB83-41C8-A2DE-3BD61F56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35C5-43D7-4D27-BF08-F828977E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72BD-BE45-4346-879E-825C8994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ce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A2530D-9553-4023-B7CB-6F5D80B77B5A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714240" y="446040"/>
            <a:ext cx="66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Footlight MT Light"/>
                <a:ea typeface="Dotum"/>
              </a:rPr>
              <a:t>Filosofia</a:t>
            </a:r>
            <a:r>
              <a:rPr b="0" lang="en-GB" sz="4400" spc="-1" strike="noStrike">
                <a:solidFill>
                  <a:srgbClr val="000000"/>
                </a:solidFill>
                <a:latin typeface="Footlight MT Light"/>
                <a:ea typeface="Dotum"/>
              </a:rPr>
              <a:t> e Histó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ootlight MT Light"/>
                <a:ea typeface="Dotum"/>
              </a:rPr>
              <a:t>da Ciência Moder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785880" y="2592360"/>
            <a:ext cx="78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ootlight MT Light"/>
                <a:ea typeface="Dotum"/>
              </a:rPr>
              <a:t>Maurício de Carvalho Ram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ootlight MT Light"/>
                <a:ea typeface="Dotum"/>
              </a:rPr>
              <a:t>Departamento de filosofia  FFLCH  US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14240" y="4532400"/>
            <a:ext cx="821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ootlight MT Light"/>
                <a:ea typeface="Dotum"/>
              </a:rPr>
              <a:t>Grupo de pesquisa em epistemologia histórica da cultura científ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85880" y="1874880"/>
            <a:ext cx="785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ootlight MT Light"/>
                <a:ea typeface="Dotum"/>
              </a:rPr>
              <a:t>Disciplina</a:t>
            </a:r>
            <a:r>
              <a:rPr b="0" lang="en-GB" sz="2200" spc="-1" strike="noStrike">
                <a:solidFill>
                  <a:srgbClr val="000000"/>
                </a:solidFill>
                <a:latin typeface="Footlight MT Light"/>
                <a:ea typeface="Dotum"/>
              </a:rPr>
              <a:t> optativa  FLF0360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49120" y="115920"/>
            <a:ext cx="8645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ootlight MT Light"/>
              </a:rPr>
              <a:t>Esquematicamente, temos a seguinte sequência genética de sistemas de conceitos e premissas que procuraram unificar o conteúdo proveniente da experiência e da observaçã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Elipse 1"/>
          <p:cNvSpPr/>
          <p:nvPr/>
        </p:nvSpPr>
        <p:spPr>
          <a:xfrm>
            <a:off x="434880" y="1312920"/>
            <a:ext cx="2830680" cy="19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ransformação dos instrumentos e postulados do pensamento livre em objetos e coisas exterio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Elipse 3"/>
          <p:cNvSpPr/>
          <p:nvPr/>
        </p:nvSpPr>
        <p:spPr>
          <a:xfrm>
            <a:off x="4354560" y="1308240"/>
            <a:ext cx="2830320" cy="19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 atitude do estilo moderno esforça-se para não deixar que o pensamento livre se torne uma segunda realidade fix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Elipse 5"/>
          <p:cNvSpPr/>
          <p:nvPr/>
        </p:nvSpPr>
        <p:spPr>
          <a:xfrm>
            <a:off x="2627280" y="3625920"/>
            <a:ext cx="3600360" cy="2417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esmo desfazendo a ilusão de atribuir aos objetos atributos subjetivos, constitui-se  o dogma de que os conceitos adquirem poderes independ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eta: para a Direita 4"/>
          <p:cNvSpPr/>
          <p:nvPr/>
        </p:nvSpPr>
        <p:spPr>
          <a:xfrm>
            <a:off x="3357720" y="2208240"/>
            <a:ext cx="853920" cy="21276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Imagem 7" descr=""/>
          <p:cNvPicPr/>
          <p:nvPr/>
        </p:nvPicPr>
        <p:blipFill>
          <a:blip r:embed="rId1"/>
          <a:stretch/>
        </p:blipFill>
        <p:spPr>
          <a:xfrm>
            <a:off x="7451640" y="2243160"/>
            <a:ext cx="873360" cy="249120"/>
          </a:xfrm>
          <a:prstGeom prst="rect">
            <a:avLst/>
          </a:prstGeom>
          <a:ln w="0">
            <a:noFill/>
          </a:ln>
        </p:spPr>
      </p:pic>
      <p:sp>
        <p:nvSpPr>
          <p:cNvPr id="68" name="Seta: para a Direita 9"/>
          <p:cNvSpPr/>
          <p:nvPr/>
        </p:nvSpPr>
        <p:spPr>
          <a:xfrm>
            <a:off x="1270080" y="4729320"/>
            <a:ext cx="853920" cy="21240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14200" y="142920"/>
            <a:ext cx="86439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(5) A análise crítica procurará eliminar este dogmatismo em relação aos concei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(6) A análise lógica deve combinar-se com a consideração histórica dos conceitos e das premissas da ciênc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(a) Os conceitos e as premissas são resultados da capacidade criativa do pensa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(b) A condicionalidade histórica do pensamento revela o desenvolvimento de tal capacid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(c) Sintetizando os dois itens anteriores, vemos claramente a perspectiva epistemohistórica de Cassirer: ele faz o método e o objeto se interpenetrar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ootlight MT Light"/>
              </a:rPr>
              <a:t>(7) Síntese do método sistemático-históric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ootlight MT Light"/>
              </a:rPr>
              <a:t>(a) A organização sistemática e a interdependência dos conceitos fundamentais são projetados na imagem de sua aparição histó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ootlight MT Light"/>
              </a:rPr>
              <a:t>(b) Estudo das fontes históricas dos conceitos fundamentais examinando-os dentro do horizonte intelectual concreto no qual surgir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ootlight MT Light"/>
              </a:rPr>
              <a:t>(c) A formulação geral do problema do conhecimento não se resume ao exame dos distintos sistemas filosóficos em sucessão, mas também deve considerar as correntes e as forças da cultura do espírito em geral – sobretudo o nascimento e o desenvolvimento da ciência ex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Elipse 1"/>
          <p:cNvSpPr/>
          <p:nvPr/>
        </p:nvSpPr>
        <p:spPr>
          <a:xfrm>
            <a:off x="604800" y="1292400"/>
            <a:ext cx="1882800" cy="11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Forma conceitual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Seta: para a Direita 4"/>
          <p:cNvSpPr/>
          <p:nvPr/>
        </p:nvSpPr>
        <p:spPr>
          <a:xfrm>
            <a:off x="2544840" y="1751040"/>
            <a:ext cx="853920" cy="210960"/>
          </a:xfrm>
          <a:prstGeom prst="rightArrow">
            <a:avLst>
              <a:gd name="adj1" fmla="val 50000"/>
              <a:gd name="adj2" fmla="val 5029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Imagem 7" descr=""/>
          <p:cNvPicPr/>
          <p:nvPr/>
        </p:nvPicPr>
        <p:blipFill>
          <a:blip r:embed="rId1"/>
          <a:stretch/>
        </p:blipFill>
        <p:spPr>
          <a:xfrm>
            <a:off x="5489640" y="1716120"/>
            <a:ext cx="871560" cy="250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749160" y="4446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ootlight MT Light"/>
              </a:rPr>
              <a:t>Metamorfoses epistêmicas a partir da liberdade do pensame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Elipse 10"/>
          <p:cNvSpPr/>
          <p:nvPr/>
        </p:nvSpPr>
        <p:spPr>
          <a:xfrm>
            <a:off x="3481560" y="1284120"/>
            <a:ext cx="1882440" cy="1128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Forma conceitual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Elipse 11"/>
          <p:cNvSpPr/>
          <p:nvPr/>
        </p:nvSpPr>
        <p:spPr>
          <a:xfrm>
            <a:off x="6505560" y="1306440"/>
            <a:ext cx="1882800" cy="113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Forma conceitual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Elipse 12"/>
          <p:cNvSpPr/>
          <p:nvPr/>
        </p:nvSpPr>
        <p:spPr>
          <a:xfrm>
            <a:off x="109440" y="4410000"/>
            <a:ext cx="2092320" cy="1128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ncepção panorgânic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éculo XV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eta: para a Direita 13"/>
          <p:cNvSpPr/>
          <p:nvPr/>
        </p:nvSpPr>
        <p:spPr>
          <a:xfrm>
            <a:off x="2330280" y="4853160"/>
            <a:ext cx="854280" cy="2124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Imagem 14" descr=""/>
          <p:cNvPicPr/>
          <p:nvPr/>
        </p:nvPicPr>
        <p:blipFill>
          <a:blip r:embed="rId2"/>
          <a:stretch/>
        </p:blipFill>
        <p:spPr>
          <a:xfrm>
            <a:off x="6138720" y="4853160"/>
            <a:ext cx="871560" cy="249120"/>
          </a:xfrm>
          <a:prstGeom prst="rect">
            <a:avLst/>
          </a:prstGeom>
          <a:ln w="0">
            <a:noFill/>
          </a:ln>
        </p:spPr>
      </p:pic>
      <p:sp>
        <p:nvSpPr>
          <p:cNvPr id="79" name="Elipse 15"/>
          <p:cNvSpPr/>
          <p:nvPr/>
        </p:nvSpPr>
        <p:spPr>
          <a:xfrm>
            <a:off x="3273480" y="4402080"/>
            <a:ext cx="2825640" cy="11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eformacionis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éculo XVI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Elipse 16"/>
          <p:cNvSpPr/>
          <p:nvPr/>
        </p:nvSpPr>
        <p:spPr>
          <a:xfrm>
            <a:off x="7081920" y="4410000"/>
            <a:ext cx="1882800" cy="1128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tomis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éculo X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2049480" y="5805360"/>
            <a:ext cx="52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ootlight MT Light"/>
              </a:rPr>
              <a:t>Condicionantes históricos dos concei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Agrupar 25"/>
          <p:cNvGrpSpPr/>
          <p:nvPr/>
        </p:nvGrpSpPr>
        <p:grpSpPr>
          <a:xfrm>
            <a:off x="861120" y="2572920"/>
            <a:ext cx="7645680" cy="1676880"/>
            <a:chOff x="861120" y="2572920"/>
            <a:chExt cx="7645680" cy="1676880"/>
          </a:xfrm>
        </p:grpSpPr>
        <p:sp>
          <p:nvSpPr>
            <p:cNvPr id="83" name="Seta: para Baixo 6"/>
            <p:cNvSpPr/>
            <p:nvPr/>
          </p:nvSpPr>
          <p:spPr>
            <a:xfrm rot="966600">
              <a:off x="1074240" y="2665080"/>
              <a:ext cx="163080" cy="156060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c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eta: para Baixo 20"/>
            <p:cNvSpPr/>
            <p:nvPr/>
          </p:nvSpPr>
          <p:spPr>
            <a:xfrm rot="11698200">
              <a:off x="1458720" y="2666520"/>
              <a:ext cx="194760" cy="1554840"/>
            </a:xfrm>
            <a:prstGeom prst="downArrow">
              <a:avLst>
                <a:gd name="adj1" fmla="val 50000"/>
                <a:gd name="adj2" fmla="val 50044"/>
              </a:avLst>
            </a:prstGeom>
            <a:solidFill>
              <a:srgbClr val="c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eta: para Baixo 21"/>
            <p:cNvSpPr/>
            <p:nvPr/>
          </p:nvSpPr>
          <p:spPr>
            <a:xfrm>
              <a:off x="4284000" y="2689200"/>
              <a:ext cx="163080" cy="156060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c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eta: para Baixo 22"/>
            <p:cNvSpPr/>
            <p:nvPr/>
          </p:nvSpPr>
          <p:spPr>
            <a:xfrm rot="10800000">
              <a:off x="4751280" y="2696760"/>
              <a:ext cx="163080" cy="1530360"/>
            </a:xfrm>
            <a:prstGeom prst="downArrow">
              <a:avLst>
                <a:gd name="adj1" fmla="val 50000"/>
                <a:gd name="adj2" fmla="val 50092"/>
              </a:avLst>
            </a:prstGeom>
            <a:solidFill>
              <a:srgbClr val="c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eta: para Baixo 23"/>
            <p:cNvSpPr/>
            <p:nvPr/>
          </p:nvSpPr>
          <p:spPr>
            <a:xfrm rot="20545800">
              <a:off x="7683120" y="2561760"/>
              <a:ext cx="163080" cy="1560600"/>
            </a:xfrm>
            <a:prstGeom prst="downArrow">
              <a:avLst>
                <a:gd name="adj1" fmla="val 50000"/>
                <a:gd name="adj2" fmla="val 50063"/>
              </a:avLst>
            </a:prstGeom>
            <a:solidFill>
              <a:srgbClr val="c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eta: para Baixo 24"/>
            <p:cNvSpPr/>
            <p:nvPr/>
          </p:nvSpPr>
          <p:spPr>
            <a:xfrm rot="9677400">
              <a:off x="8067600" y="2562840"/>
              <a:ext cx="194760" cy="1554840"/>
            </a:xfrm>
            <a:prstGeom prst="downArrow">
              <a:avLst>
                <a:gd name="adj1" fmla="val 50000"/>
                <a:gd name="adj2" fmla="val 50044"/>
              </a:avLst>
            </a:prstGeom>
            <a:solidFill>
              <a:srgbClr val="c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9" name="Imagem 19" descr=""/>
          <p:cNvPicPr/>
          <p:nvPr/>
        </p:nvPicPr>
        <p:blipFill>
          <a:blip r:embed="rId3"/>
          <a:stretch/>
        </p:blipFill>
        <p:spPr>
          <a:xfrm>
            <a:off x="887400" y="2793960"/>
            <a:ext cx="7531200" cy="13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200" y="1429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(8) Nesta abordagem, as </a:t>
            </a:r>
            <a:r>
              <a:rPr b="0" i="1" lang="en-GB" sz="2400" spc="-1" strike="noStrike">
                <a:solidFill>
                  <a:srgbClr val="000000"/>
                </a:solidFill>
                <a:latin typeface="Footlight MT Light"/>
              </a:rPr>
              <a:t>origens renascentistas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da filosofia e da ciência modernas ganham significado espe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608040" y="549360"/>
            <a:ext cx="7927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Volum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Introdução (parte 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85840" y="233280"/>
            <a:ext cx="864396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Conhecimento ingênuo e conhecimento cientí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Conhecimento como repodução e cópia de uma realidade inuqestionada: entre o ‘ser’ do objeto e o modo como se reflete no conhecimento não há qualquer divergência ou contradição: entre o ser do objeto e o modo pelo qual esse ser se constitui como conhecimento há apenas uma </a:t>
            </a:r>
            <a:r>
              <a:rPr b="1" lang="en-GB" sz="2400" spc="-1" strike="noStrike">
                <a:solidFill>
                  <a:srgbClr val="000000"/>
                </a:solidFill>
                <a:latin typeface="Footlight MT Light"/>
              </a:rPr>
              <a:t>diferença de grau e não de natureza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(cf. Cassirer, 1993, p. 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Conhecimento científico como transformação, crítica e seleção do conteúdo oriundo do mundo exterior. O conhecimento possui uma força originária próp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Mas, não temos mais os “originais” externos para conferir a consistência e a verdade dos conceitos criados por essa força originária. O mundo conceitual se transforma em uma segunda real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85840" y="233280"/>
            <a:ext cx="86439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[…] se para a </a:t>
            </a:r>
            <a:r>
              <a:rPr b="1" lang="en-GB" sz="2400" spc="-1" strike="noStrike">
                <a:solidFill>
                  <a:srgbClr val="000000"/>
                </a:solidFill>
                <a:latin typeface="Footlight MT Light"/>
              </a:rPr>
              <a:t>ciência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basta reduzir o mundo multiforme das cores e dos sons ao mundo dos átomos e dos movimentos atômicos [conceitos científicos], dando-lhe certeza e permanência em uma série de unidades e leis últimas e constantes, o problema autenticamente </a:t>
            </a:r>
            <a:r>
              <a:rPr b="1" lang="en-GB" sz="2400" spc="-1" strike="noStrike">
                <a:solidFill>
                  <a:srgbClr val="000000"/>
                </a:solidFill>
                <a:latin typeface="Footlight MT Light"/>
              </a:rPr>
              <a:t>filosófico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surge precisamente ali onde estes elementos originários do ser são concebidos, por sua vez, como </a:t>
            </a:r>
            <a:r>
              <a:rPr b="1" lang="en-GB" sz="2400" spc="-1" strike="noStrike">
                <a:solidFill>
                  <a:srgbClr val="000000"/>
                </a:solidFill>
                <a:latin typeface="Footlight MT Light"/>
              </a:rPr>
              <a:t>criações do pensamento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" (p. 1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Duas indagações epistemohistóricas sobre a cultura científica moderma – pensando “com” e “a partir do” autor (Cassirer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Footlight MT Light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Onde podemos chegar pensando os conceitos de conhecimento ingênuo, ciência e filosofia a partir do que foi dito até aqui? Desejo que esta indagação conduzam ao significado de “história e filosofia da ciência modern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(2) O que significa “originário” quando Cassirer fala em “força originária própria do conhecimento” ou “elementos originários” conceituais como criações do pensamento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285840" y="149400"/>
            <a:ext cx="8643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Voltando ao percurso proposto por Cassirer: “[…] a realidade dos objetos se dissolve agora, para nós, no mundo da consciência; o mundo das coisas foi substituído pelo mundo espiritual de conceitos puros e de 'hipóteses‘ " (p. 1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Aqui é preciso refletir sobre o que estamos percebendo do problema filosófico que está diante de nosso espírito. Feita a reflexão, podemos ler a seguir o que considerarei como uma solução proposta por Cassirer. Contudo, segundo minha proposta de estudo, é necessário que essa resposta encontre agora alguma sintonia com o espírito inquiridor de quem está estudando estas idei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285840" y="14940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[…] No </a:t>
            </a:r>
            <a:r>
              <a:rPr b="1" lang="en-GB" sz="2400" spc="-1" strike="noStrike">
                <a:solidFill>
                  <a:srgbClr val="ff0000"/>
                </a:solidFill>
                <a:latin typeface="Footlight MT Light"/>
              </a:rPr>
              <a:t>campo do espiritual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não se dão uma consistência e uma ‘existência’ que possam ser comparadas com a ‘existência’ dos objetos da natureza. A </a:t>
            </a:r>
            <a:r>
              <a:rPr b="1" lang="en-GB" sz="2400" spc="-1" strike="noStrike">
                <a:solidFill>
                  <a:srgbClr val="ff0000"/>
                </a:solidFill>
                <a:latin typeface="Footlight MT Light"/>
              </a:rPr>
              <a:t>realidade de um conteúdo, nesse campo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, consiste sempre no </a:t>
            </a:r>
            <a:r>
              <a:rPr b="0" i="1" lang="en-GB" sz="2400" spc="-1" strike="noStrike">
                <a:solidFill>
                  <a:srgbClr val="000000"/>
                </a:solidFill>
                <a:latin typeface="Footlight MT Light"/>
              </a:rPr>
              <a:t>processo 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no qual ele é descoberto e trazido para a consciência; somente compreendemos o ser através de seu </a:t>
            </a:r>
            <a:r>
              <a:rPr b="1" lang="en-GB" sz="2400" spc="-1" strike="noStrike">
                <a:solidFill>
                  <a:srgbClr val="ff0000"/>
                </a:solidFill>
                <a:latin typeface="Footlight MT Light"/>
              </a:rPr>
              <a:t>processo de desenvolvimento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e pelas </a:t>
            </a:r>
            <a:r>
              <a:rPr b="1" lang="en-GB" sz="2400" spc="-1" strike="noStrike">
                <a:solidFill>
                  <a:srgbClr val="ff0000"/>
                </a:solidFill>
                <a:latin typeface="Footlight MT Light"/>
              </a:rPr>
              <a:t>leis de seu nascimento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. Daí, a própria essência daqueles </a:t>
            </a:r>
            <a:r>
              <a:rPr b="1" lang="en-GB" sz="2400" spc="-1" strike="noStrike">
                <a:solidFill>
                  <a:srgbClr val="ff0000"/>
                </a:solidFill>
                <a:latin typeface="Footlight MT Light"/>
              </a:rPr>
              <a:t>conceitos </a:t>
            </a:r>
            <a:r>
              <a:rPr b="1" i="1" lang="en-GB" sz="2400" spc="-1" strike="noStrike">
                <a:solidFill>
                  <a:srgbClr val="ff0000"/>
                </a:solidFill>
                <a:latin typeface="Footlight MT Light"/>
              </a:rPr>
              <a:t>lógicos</a:t>
            </a:r>
            <a:r>
              <a:rPr b="1" lang="en-GB" sz="2400" spc="-1" strike="noStrike">
                <a:solidFill>
                  <a:srgbClr val="ff0000"/>
                </a:solidFill>
                <a:latin typeface="Footlight MT Light"/>
              </a:rPr>
              <a:t> fundamentais que a ciência desenvolve por si mesma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exige que não os consideremos como estruturas separadas e desprendidas umas das outras, mas, ao contrário, que as </a:t>
            </a:r>
            <a:r>
              <a:rPr b="1" lang="en-GB" sz="2400" spc="-1" strike="noStrike">
                <a:solidFill>
                  <a:srgbClr val="ff0000"/>
                </a:solidFill>
                <a:latin typeface="Footlight MT Light"/>
              </a:rPr>
              <a:t>captemos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em sua </a:t>
            </a:r>
            <a:r>
              <a:rPr b="1" lang="en-GB" sz="2400" spc="-1" strike="noStrike">
                <a:solidFill>
                  <a:srgbClr val="ff0000"/>
                </a:solidFill>
                <a:latin typeface="Footlight MT Light"/>
              </a:rPr>
              <a:t>sucessão e dependência </a:t>
            </a:r>
            <a:r>
              <a:rPr b="1" i="1" lang="en-GB" sz="2400" spc="-1" strike="noStrike">
                <a:solidFill>
                  <a:srgbClr val="ff0000"/>
                </a:solidFill>
                <a:latin typeface="Footlight MT Light"/>
              </a:rPr>
              <a:t>históricas</a:t>
            </a:r>
            <a:r>
              <a:rPr b="1" lang="en-GB" sz="2400" spc="-1" strike="noStrike">
                <a:solidFill>
                  <a:srgbClr val="ff0000"/>
                </a:solidFill>
                <a:latin typeface="Footlight MT Light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(p. 1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Nosso exemplo anteri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Imagem 1" descr=""/>
          <p:cNvPicPr/>
          <p:nvPr/>
        </p:nvPicPr>
        <p:blipFill>
          <a:blip r:embed="rId1"/>
          <a:stretch/>
        </p:blipFill>
        <p:spPr>
          <a:xfrm>
            <a:off x="808200" y="5157720"/>
            <a:ext cx="7527600" cy="13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484360" y="1068480"/>
            <a:ext cx="3857760" cy="473868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6"/>
          <p:cNvSpPr/>
          <p:nvPr/>
        </p:nvSpPr>
        <p:spPr>
          <a:xfrm>
            <a:off x="785880" y="6156360"/>
            <a:ext cx="80722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ootlight MT Light"/>
              </a:rPr>
              <a:t>Pierre-Louis Moreau de Maupertuis (1698-175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CaixaDeTexto 6"/>
          <p:cNvSpPr/>
          <p:nvPr/>
        </p:nvSpPr>
        <p:spPr>
          <a:xfrm>
            <a:off x="268200" y="277920"/>
            <a:ext cx="8607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ootlight MT Light"/>
              </a:rPr>
              <a:t>Segundo exemplo: há desejo entre os corpos da naturez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714240" y="725400"/>
            <a:ext cx="8358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1. A filosofia natural do Renasci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2. A teoria psicológica do conhecimento do Renasci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3. O nascimento da ciência mode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4. A revolução astronômica e o novo papel do sujeito do conheci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5. Kepler e a harmonia do 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6. Galileu, experiência e raz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7. Descartes e Leibniz: metafísica e fís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ootlight MT Light"/>
              </a:rPr>
              <a:t>8. Aspectos do desenvolvimento da ciência moderna no século XVI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J:\FigureAstresFront.jpg"/>
          <p:cNvPicPr/>
          <p:nvPr/>
        </p:nvPicPr>
        <p:blipFill>
          <a:blip r:embed="rId1"/>
          <a:stretch/>
        </p:blipFill>
        <p:spPr>
          <a:xfrm>
            <a:off x="714240" y="289080"/>
            <a:ext cx="7743960" cy="62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440000" y="287280"/>
            <a:ext cx="611964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1440000" y="1008000"/>
            <a:ext cx="61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157400" y="287280"/>
            <a:ext cx="6943680" cy="6120000"/>
          </a:xfrm>
          <a:prstGeom prst="rect">
            <a:avLst/>
          </a:prstGeom>
          <a:ln w="0">
            <a:noFill/>
          </a:ln>
        </p:spPr>
      </p:pic>
      <p:sp>
        <p:nvSpPr>
          <p:cNvPr id="104" name="Conector reto 2"/>
          <p:cNvSpPr/>
          <p:nvPr/>
        </p:nvSpPr>
        <p:spPr>
          <a:xfrm>
            <a:off x="3924360" y="2133720"/>
            <a:ext cx="403236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Conector reto 4"/>
          <p:cNvSpPr/>
          <p:nvPr/>
        </p:nvSpPr>
        <p:spPr>
          <a:xfrm>
            <a:off x="1187280" y="2781360"/>
            <a:ext cx="17290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285840" y="233280"/>
            <a:ext cx="8643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Maupertuis defende a posição newtoniana argumentando que “uma resposta categórica à existência da atração – ou de qualquer outra propriedade da matéria – depende de um conhecimento absoluto dos corpos [...] Segundo o autor, estamos longe de tal conhecimento” e o que podemos conhecer com segurança sobre os corpos são basicamente duas coisas: “conhecemos conjuntos de propriedades que nos permitem identificar este ou aquele corpo particular e podemos também distinguir diferentes ordens de universalidade de porpriedad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Ramos, M. de C. </a:t>
            </a:r>
            <a:r>
              <a:rPr b="0" i="1" lang="en-GB" sz="2400" spc="-1" strike="noStrike">
                <a:solidFill>
                  <a:srgbClr val="000000"/>
                </a:solidFill>
                <a:latin typeface="Footlight MT Light"/>
              </a:rPr>
              <a:t>A geração dos corpos organizados em Maupertuis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. São Paulo: Scientiae Studia/Editora 34/Fapesp, 2009. Capítulo 1, p. 23-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3511440" cy="6019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60920" cy="2357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4084560" y="4591080"/>
            <a:ext cx="479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Maupertuis, P.-L. M. de. </a:t>
            </a:r>
            <a:r>
              <a:rPr b="0" i="1" lang="en-GB" sz="2400" spc="-1" strike="noStrike">
                <a:solidFill>
                  <a:srgbClr val="000000"/>
                </a:solidFill>
                <a:latin typeface="Footlight MT Light"/>
              </a:rPr>
              <a:t>Sistema da natureza: ensaio sobre a geração dos corpos organizados. Scientiae Studia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, 7, 3, 2009. p. 473-50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428840" y="928800"/>
            <a:ext cx="637200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500120" y="357120"/>
            <a:ext cx="638172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aixaDeTexto 6"/>
          <p:cNvSpPr/>
          <p:nvPr/>
        </p:nvSpPr>
        <p:spPr>
          <a:xfrm>
            <a:off x="268200" y="277920"/>
            <a:ext cx="8607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ootlight MT Light"/>
              </a:rPr>
              <a:t>A função que o exemplo cumpriu pode ser compreendida apenas se pudermos formular uma resposta completa para a pergunta inicial “Há desejo entre os corpos da natureza?”. Esta é uma maneira epistemohistoricamente direta de verificarmos internamente nossa ligação com o que estamos chamando de “o problema do conhecimento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249120" y="44280"/>
            <a:ext cx="864576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ootlight MT Light"/>
              </a:rPr>
              <a:t>Primeira conclusã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Footlight MT Light"/>
              </a:rPr>
              <a:t>[…] vemos como um conceito que em uma época parece contraditório consigo mesmo é empregado na seguinte como instrumento e condição necessária de todo conhecimento” (p. 15). Um bom exemplo aqui é o cocneito de form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Footlight MT Light"/>
              </a:rPr>
              <a:t>[…] a visão que cada época se forma da natureza e da realidade das coisas é apenas a expressão e o reflexo de seu ideal de conhecimento” (p. 16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ootlight MT Light"/>
              </a:rPr>
              <a:t>Como já vimos anteriormente, Cassirer diz: “Tentaremos analisar o complexo de premissas com o qual nossa ciência aborda a interpretação dos fenômenos para ir seguindo, um por um, os fios mais importantes, em seu nascimento e desenvolvimento históricos" (p. 1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2286000" y="2770200"/>
            <a:ext cx="500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Footlight MT Light"/>
                <a:ea typeface="Dotum"/>
              </a:rPr>
              <a:t>Introduçã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285840" y="928800"/>
            <a:ext cx="8643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[...] podemos confiar em ir penetrando com nosso olhar o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conteúdo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 desta intricada trama conceitual e, ao mesmo tempo, ir descobrindo as relações e os nexos interiores de dependência entre seus distintos membros [...] a história tende a converter-se em complemento e em pedra de toque dos resultados que a análise intrínseca e a redução das ciências nos brindam” (p. 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285840" y="233280"/>
            <a:ext cx="86439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ootlight MT Light"/>
              </a:rPr>
              <a:t>Novos desenvolvimentos gerais do problema do conhecimento: sujeito, objeto, mito e ciênc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Footlight MT Light"/>
              </a:rPr>
              <a:t>[…] os conceitos de ‘sujeito’ e ‘objeto’, com os quais a teoria psicológica do conhecimento geralmente operam como se fossem pontos de partida firmes, não são tampouco um </a:t>
            </a:r>
            <a:r>
              <a:rPr b="1" lang="en-GB" sz="2600" spc="-1" strike="noStrike">
                <a:solidFill>
                  <a:srgbClr val="000000"/>
                </a:solidFill>
                <a:latin typeface="Footlight MT Light"/>
              </a:rPr>
              <a:t>patrimônio</a:t>
            </a:r>
            <a:r>
              <a:rPr b="0" lang="en-GB" sz="2600" spc="-1" strike="noStrike">
                <a:solidFill>
                  <a:srgbClr val="000000"/>
                </a:solidFill>
                <a:latin typeface="Footlight MT Light"/>
              </a:rPr>
              <a:t> dado e evidente do pensamento, mas toda época verdadeiramente criadora tem que começar por adquiri-los e imprimir-lhes seu sentido por sua própria conta" (p. 18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ootlight MT Light"/>
              </a:rPr>
              <a:t>A abordagem histórica das realizações científicas pode mostar como sujeito e objeto podem trocar de </a:t>
            </a:r>
            <a:r>
              <a:rPr b="1" lang="en-GB" sz="2600" spc="-1" strike="noStrike">
                <a:solidFill>
                  <a:srgbClr val="000000"/>
                </a:solidFill>
                <a:latin typeface="Footlight MT Light"/>
              </a:rPr>
              <a:t>função</a:t>
            </a:r>
            <a:r>
              <a:rPr b="0" lang="en-GB" sz="2600" spc="-1" strike="noStrike">
                <a:solidFill>
                  <a:srgbClr val="000000"/>
                </a:solidFill>
                <a:latin typeface="Footlight MT Light"/>
              </a:rPr>
              <a:t>. O que era objeto do mundo pode torna-se conceito no espírito; o espírito pode torna-se objeto do mundo.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85840" y="115920"/>
            <a:ext cx="864396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Mito e ciência também podem trocar de função. Cassirer afirma que na filosofia renascentista não podemos “estabelecer com nitidez os limites entre mito e ciência, entre ‘magia’ e ‘filosofia’”. Porém, também é verdade que, “percorrendo esse caminho, nossos olhos mergulham profundamente na dinâmica do processo intectual através do qual, e somente através dele, se processou, de forma lenta e constante, a ‘separação’ entre esses dois domínios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Cassirer, E. </a:t>
            </a:r>
            <a:r>
              <a:rPr b="0" i="1" lang="en-GB" sz="2800" spc="-1" strike="noStrike">
                <a:solidFill>
                  <a:srgbClr val="000000"/>
                </a:solidFill>
                <a:latin typeface="Footlight MT Light"/>
              </a:rPr>
              <a:t>Indivíduo e cosmo na filosofia do Renascimento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. </a:t>
            </a:r>
            <a:r>
              <a:rPr b="0" lang="pt-BR" sz="2800" spc="-1" strike="noStrike">
                <a:solidFill>
                  <a:srgbClr val="000000"/>
                </a:solidFill>
                <a:latin typeface="Footlight MT Light"/>
              </a:rPr>
              <a:t>São Paulo: Martins Fontes, 1984.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 p. 17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Acrescentamos que essa separação não é necessariamente progressiva e pode apresentar metamorphoses conceituais cíclicas que apontem para um estado futuro de novas sínte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85840" y="11592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ootlight MT Light"/>
              </a:rPr>
              <a:t>Nova 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indagação epistemohistórica sobre a cultura científica moder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Que diferença existe entre o processo de construção de um conceito pelo sujeito utilizando instrumentos racionais e a história da construção do mesmo conceito por uma comunidade sujeitos existentes em um interval dado de tempo? As duas construç~çoes são igualmente históric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285840" y="233280"/>
            <a:ext cx="8643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Prelúdios e impulsos primeiros que produziram o conceito de conhec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"Esta gradual transformação do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conceito do eu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 e do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conceito do objeto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 não se leva a cabo apenas, nem muito menos, nos sistemas filosóficos fechados, mas também nos múltiplos intentos e esforços da investigação e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em toda cultura espiritual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. Todas as tendências encaminhadas para criar uma nova metodologia das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ciências da experiência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 ou para assentar, com um conceito mais profundo da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consciência de si mesmo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, um novo fundamento das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ciências do espírito,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 também caem, indiretamente, dentro da órbita do nosso problema" (p. 1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285840" y="592200"/>
            <a:ext cx="8643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Os objetos históricos de Cassirer não são apenas as teorias do conhecimento e os sistemas filosóficos, mas "todo o movimento intelectual de uma época, o ideal de conhecimento que nela predomina e a move" (p. 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No início do movimento intelectual da época moderna, as ciências naturais experimentaram o progresso decorrente de sua associação íntima com a matemática; o mesmo não ocorreu com as ciências do espírito, já que seu conteúdo "aparece de certo modo fundido com o sistema dominante da metafísica, determinado ao mesmo tempo pela tradição aristotélica e pela doutrina da Igreja" (p. 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285840" y="596880"/>
            <a:ext cx="8643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"Os conceitos fundamentais do conhecimento científico, os conceitos de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força e causa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, de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substância e matéria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, têm todos uma ampla e complicada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pré-história metafísica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, que se remonta muito além dos começos da era moderna. É certo que não se poderia expor a gênese destes conceitos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sem dirigir constantemente o olhar para sua função dentro da física matemática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; por outro lado,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não seria possível, fixando-se apenas nisto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, explicar e fazer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compreender todas e cada uma das fases concretas de seu desenvolvimento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" (p. 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285840" y="3333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"A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história do problema do conhecimento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 deve significar para nós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não tanto uma parte da história da filosofia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 – já que qualquer segregação deste tipo representaria necessariamente uma barreira artificial e arbitrária, dada a interdependência interior e a mútua condicionalidade intrínseca que existe entre todos os membros do sistema filosófico – </a:t>
            </a: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mas como o campo total da filosofia</a:t>
            </a:r>
            <a:r>
              <a:rPr b="0" lang="en-GB" sz="2800" spc="-1" strike="noStrike">
                <a:solidFill>
                  <a:srgbClr val="000000"/>
                </a:solidFill>
                <a:latin typeface="Footlight MT Light"/>
              </a:rPr>
              <a:t>, contemplando desde um determinado ponto de vista e sob uma determinada iluminação, ou seja, como uma investigação que tende a descolar ante nossa vista, em um corte vertical, por assim dizer, o conteúdo da filosofia moderna" (p. 2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2000160" y="368280"/>
            <a:ext cx="5143680" cy="5060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2714760" y="5784840"/>
            <a:ext cx="38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ootlight MT Light"/>
                <a:ea typeface="Dotum"/>
              </a:rPr>
              <a:t>Ernst Cassirer (1874 – 194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85840" y="233280"/>
            <a:ext cx="86439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O problema do conhec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na filosofia e na ciência moder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1906 – Volum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O renascer do problema do conhec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A descoberta do conceito de natur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Os fundamentos do ideal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1907 – Volum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Desenvolvimento e culminação do racional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O problema do conhecimento no sistema do empir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De Newton a K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A filosofia crí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1920 – Volum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Os sistemas pós-kanti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1957 – Volum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As ciências exa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O ideal do conhecimento na biologia e suas vicissitu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ootlight MT Light"/>
              </a:rPr>
              <a:t>Formas e direções fundamentais do conhecimento histó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14200" y="142920"/>
            <a:ext cx="864396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ootlight MT Light"/>
              </a:rPr>
              <a:t>Projeto e método da o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[…] iluminar e esclarecer as origens e o desenvolvimento históricos do problema fundamental da filosofia moderna: o </a:t>
            </a:r>
            <a:r>
              <a:rPr b="0" i="1" lang="en-GB" sz="2400" spc="-1" strike="noStrike">
                <a:solidFill>
                  <a:srgbClr val="000000"/>
                </a:solidFill>
                <a:latin typeface="Footlight MT Light"/>
              </a:rPr>
              <a:t>problema do conhecimento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” (p. 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Esclarecer como tomou forma o conceito moderno e os sistemas modernos de conhecimento. Esta perspectiva atribui uma importância capital tanto para a história da filosofia como para a da ciência modernas. Esta é, entendemos, sua principal virtude como interpretação de fundo para um curso que articule filosofia e história da ciência mod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4200" y="142920"/>
            <a:ext cx="86439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Nossa abordagem do conteúdo é feita utilizando um estilo de pensamento e um método epistemohistórico. Nele, os autores são utilizados como instrumentos para a solução de problemas, a compreensão de temas e o desenvolvimento de conceitos. O texto de Cassirer é voltado não para a teoria do conhecimento e da ciência moderna, mas para o </a:t>
            </a:r>
            <a:r>
              <a:rPr b="0" i="1" lang="en-GB" sz="2400" spc="-1" strike="noStrike">
                <a:solidFill>
                  <a:srgbClr val="000000"/>
                </a:solidFill>
                <a:latin typeface="Footlight MT Light"/>
              </a:rPr>
              <a:t>problema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do conhecimento. Assim, nosso objetivo é examinar e compreender </a:t>
            </a:r>
            <a:r>
              <a:rPr b="0" i="1" lang="en-GB" sz="2400" spc="-1" strike="noStrike">
                <a:solidFill>
                  <a:srgbClr val="000000"/>
                </a:solidFill>
                <a:latin typeface="Footlight MT Light"/>
              </a:rPr>
              <a:t>o problema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partindo das ideias do autor, mas explorando-as para outros domínios do pens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Segundo o autor, “Tentaremos </a:t>
            </a:r>
            <a:r>
              <a:rPr b="1" lang="en-GB" sz="2400" spc="-1" strike="noStrike">
                <a:solidFill>
                  <a:srgbClr val="000000"/>
                </a:solidFill>
                <a:latin typeface="Footlight MT Light"/>
              </a:rPr>
              <a:t>analisar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 o complexo de premissas com o qual nossa ciência [a ciência moderna] aborda a interpretação dos fenômenos para ir seguindo, um a um, os fios mais importantes em seu </a:t>
            </a:r>
            <a:r>
              <a:rPr b="1" lang="en-GB" sz="2400" spc="-1" strike="noStrike">
                <a:solidFill>
                  <a:srgbClr val="000000"/>
                </a:solidFill>
                <a:latin typeface="Footlight MT Light"/>
              </a:rPr>
              <a:t>nascimento e desenvolvimento históricos</a:t>
            </a: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" (p. 1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ootlight MT Light"/>
              </a:rPr>
              <a:t>Seguir esses fios significa adotar pistas deixadas por Cassirer para compreender as metamorphoses dos conceitos que são pesquis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85840" y="384120"/>
            <a:ext cx="8643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ootlight MT Light"/>
              </a:rPr>
              <a:t>Identificação de oito pistas de investigaçã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ootlight MT Light"/>
              </a:rPr>
              <a:t>(1) O pensamento moderno converge para a elaboração de um novo conceito  do conhecimen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ootlight MT Light"/>
              </a:rPr>
              <a:t>(2) Cada época possui um sistema de conceitos e premissas que organiza, na forma de uma unidade, a matéria oriunda da experiência e da observaçã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ootlight MT Light"/>
              </a:rPr>
              <a:t>(3) Como produtos do espírito, este sistema pode ser transformado em formas fixas e definitiv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ootlight MT Light"/>
              </a:rPr>
              <a:t>(a) Os instrumentos livres do pensamento transformam-se em </a:t>
            </a:r>
            <a:r>
              <a:rPr b="0" i="1" lang="en-GB" sz="2200" spc="-1" strike="noStrike">
                <a:solidFill>
                  <a:srgbClr val="000000"/>
                </a:solidFill>
                <a:latin typeface="Footlight MT Light"/>
              </a:rPr>
              <a:t>objetos subsistentes</a:t>
            </a:r>
            <a:r>
              <a:rPr b="0" lang="en-GB" sz="2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ootlight MT Light"/>
              </a:rPr>
              <a:t>(b) Os postulados livres do entendimento são considerados como </a:t>
            </a:r>
            <a:r>
              <a:rPr b="0" i="1" lang="en-GB" sz="2200" spc="-1" strike="noStrike">
                <a:solidFill>
                  <a:srgbClr val="000000"/>
                </a:solidFill>
                <a:latin typeface="Footlight MT Light"/>
              </a:rPr>
              <a:t>coisas </a:t>
            </a:r>
            <a:r>
              <a:rPr b="0" lang="en-GB" sz="2200" spc="-1" strike="noStrike">
                <a:solidFill>
                  <a:srgbClr val="000000"/>
                </a:solidFill>
                <a:latin typeface="Footlight MT Light"/>
              </a:rPr>
              <a:t>do mundo exterior que são passivamente aceit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14200" y="142920"/>
            <a:ext cx="86439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Footlight MT Light"/>
              </a:rPr>
              <a:t>(4) A nova atitude moderna em relação ao conhecimento desenvolve-se na medida em que propõe uma introspecção crítica capaz de evitar que a força e a independência do espírito seja transformada em uma </a:t>
            </a:r>
            <a:r>
              <a:rPr b="0" i="1" lang="en-GB" sz="2100" spc="-1" strike="noStrike">
                <a:solidFill>
                  <a:srgbClr val="000000"/>
                </a:solidFill>
                <a:latin typeface="Footlight MT Light"/>
              </a:rPr>
              <a:t>segunda realidade</a:t>
            </a:r>
            <a:r>
              <a:rPr b="0" lang="en-GB" sz="2100" spc="-1" strike="noStrike">
                <a:solidFill>
                  <a:srgbClr val="000000"/>
                </a:solidFill>
                <a:latin typeface="Footlight MT Light"/>
              </a:rPr>
              <a:t>  independente e imutável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Footlight MT Light"/>
              </a:rPr>
              <a:t>(a) A ciência desfaz a ilusão de atribuir aos próprios </a:t>
            </a:r>
            <a:r>
              <a:rPr b="0" i="1" lang="en-GB" sz="2100" spc="-1" strike="noStrike">
                <a:solidFill>
                  <a:srgbClr val="000000"/>
                </a:solidFill>
                <a:latin typeface="Footlight MT Light"/>
              </a:rPr>
              <a:t>objetos</a:t>
            </a:r>
            <a:r>
              <a:rPr b="0" lang="en-GB" sz="2100" spc="-1" strike="noStrike">
                <a:solidFill>
                  <a:srgbClr val="000000"/>
                </a:solidFill>
                <a:latin typeface="Footlight MT Light"/>
              </a:rPr>
              <a:t> as sensações subjetivas dos sentidos, m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Footlight MT Light"/>
              </a:rPr>
              <a:t>(b) os </a:t>
            </a:r>
            <a:r>
              <a:rPr b="0" i="1" lang="en-GB" sz="2100" spc="-1" strike="noStrike">
                <a:solidFill>
                  <a:srgbClr val="000000"/>
                </a:solidFill>
                <a:latin typeface="Footlight MT Light"/>
              </a:rPr>
              <a:t>conceitos</a:t>
            </a:r>
            <a:r>
              <a:rPr b="0" lang="en-GB" sz="2100" spc="-1" strike="noStrike">
                <a:solidFill>
                  <a:srgbClr val="000000"/>
                </a:solidFill>
                <a:latin typeface="Footlight MT Light"/>
              </a:rPr>
              <a:t> como instrumentos que asseguram a supremacia do pensamento sobre os fenômenos podem adquirir poderes próprios e independent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uricio Ramos</dc:creator>
  <dc:description/>
  <dc:language>en-US</dc:language>
  <cp:lastModifiedBy>asus</cp:lastModifiedBy>
  <dcterms:modified xsi:type="dcterms:W3CDTF">2018-03-07T18:50:40Z</dcterms:modified>
  <cp:revision>66</cp:revision>
  <dc:subject/>
  <dc:title>Slide 1</dc:title>
</cp:coreProperties>
</file>