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Text Box 6"/>
          <p:cNvSpPr/>
          <p:nvPr/>
        </p:nvSpPr>
        <p:spPr>
          <a:xfrm>
            <a:off x="3884760" y="0"/>
            <a:ext cx="29685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sldImg"/>
          </p:nvPr>
        </p:nvSpPr>
        <p:spPr>
          <a:xfrm>
            <a:off x="1143000" y="685440"/>
            <a:ext cx="4565520" cy="3427560"/>
          </a:xfrm>
          <a:prstGeom prst="rect">
            <a:avLst/>
          </a:prstGeom>
          <a:noFill/>
          <a:ln w="12600">
            <a:solidFill>
              <a:srgbClr val="000000"/>
            </a:solidFill>
            <a:miter/>
          </a:ln>
        </p:spPr>
        <p:txBody>
          <a:bodyPr lIns="90000" rIns="90000" tIns="46800" bIns="46800" anchor="ctr">
            <a:noAutofit/>
          </a:bodyPr>
          <a:p>
            <a:pPr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685800" y="4343400"/>
            <a:ext cx="54799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3"/>
          <p:cNvSpPr>
            <a:spLocks noGrp="1"/>
          </p:cNvSpPr>
          <p:nvPr>
            <p:ph type="sldNum" idx="2"/>
          </p:nvPr>
        </p:nvSpPr>
        <p:spPr>
          <a:xfrm>
            <a:off x="3884400" y="8685360"/>
            <a:ext cx="2965320" cy="4507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D85280-65F2-4D0C-8604-D004635BB2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623E8D-9FED-46C4-A8F0-E4CEA584979C}"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79"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2348F5-A616-47C0-8F27-D442C02F331F}"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17B8C2-C427-4995-82DB-7C2CA6CE779B}"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92BA64-BBE8-4C81-9B39-F4CE76D3FF33}"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16"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772A14-AAEE-4767-9F59-EE45EB05A159}"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1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0A2EB0-4D4B-4ED1-A33B-B266A1F2CB48}"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0"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5A80E7-28D7-489A-A9A7-319E9BBB2399}"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4CBCE4-3734-4969-99A4-2883FCE2392A}"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4"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1CDC15-2CAE-4927-884D-79840F2E1578}"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BB460A-54CC-42D4-B61F-959241111358}"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8"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70D05A-06B9-49C0-8834-F24C8FC03130}"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2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FAE58A-3870-4224-9059-CB0E4F653189}"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4"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E793FF-9375-4139-94C2-A097391486B4}"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50443E-9956-4732-92DC-F66B38A5CAC7}"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8"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4B3F93-F545-4329-9E9B-BEADFD3A69BB}"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EC5EE5-89FB-4BF4-836C-105223283143}"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92"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5E4336-48C8-4AE1-830F-9515E08CAFB3}"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9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BA433A-7DD0-498D-BC52-2D45844A03D7}"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96"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CD8E4-C35E-4286-B3BF-C9CBFA21CC81}"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9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272FA8-206C-4995-8AE4-EF3174D5FB59}"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0"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4B19CD-5861-45BF-9A3B-2B542E167D96}"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5D9085-6F86-4914-9242-EA63FC131F75}"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4"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0D8E5C-CECD-4077-996A-FB7F2E7865BE}"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1D10B4-D014-4AA3-A699-137386193EDD}"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8"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16320F-CABB-4179-A25A-17DFF9B08458}"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0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B233B9-DEFB-4687-B1FE-A4A40D85AED4}"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12" name="Text Box 1"/>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2849C3-A7E0-4FD6-8DEE-E1FB782943FE}" type="slidenum">
              <a:rPr b="0" lang="en-GB"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11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68315-67CF-4E8B-8C8D-D38DEC686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312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312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7F5CC-9B67-4B18-8013-E44667788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064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0640" y="39636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6DB95-82FD-4367-8074-267EF85E7F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480" y="16002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7760" y="16002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480" y="39636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7760" y="3963600"/>
            <a:ext cx="264744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8E3A0-5661-4621-9B94-7C2388814F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3120" cy="4524480"/>
          </a:xfrm>
          <a:prstGeom prst="rect">
            <a:avLst/>
          </a:prstGeom>
          <a:noFill/>
          <a:ln w="0">
            <a:noFill/>
          </a:ln>
        </p:spPr>
        <p:txBody>
          <a:bodyPr lIns="0" rIns="0" tIns="0" bIns="0" anchor="ctr">
            <a:noAutofit/>
          </a:bodyPr>
          <a:p>
            <a:pPr indent="0" algn="ctr">
              <a:lnSpc>
                <a:spcPct val="7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B5220-D6D2-4D1B-9843-7A1210312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3120" cy="452448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CEFA3-4B38-4B07-8C08-768895CDF9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2560" cy="452448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0640" y="1600200"/>
            <a:ext cx="4012560" cy="452448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47867-9E07-4758-B161-7BEB414B7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85B86E-D690-486B-B252-5229B59EC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3120" cy="6639480"/>
          </a:xfrm>
          <a:prstGeom prst="rect">
            <a:avLst/>
          </a:prstGeom>
          <a:noFill/>
          <a:ln w="0">
            <a:noFill/>
          </a:ln>
        </p:spPr>
        <p:txBody>
          <a:bodyPr lIns="0" rIns="0" tIns="0" bIns="0" anchor="ctr">
            <a:noAutofit/>
          </a:bodyPr>
          <a:p>
            <a:pPr algn="ctr">
              <a:lnSpc>
                <a:spcPct val="7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F3863B-6102-4E02-9354-B51CB4AC8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0640" y="1600200"/>
            <a:ext cx="4012560" cy="452448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94655-FC37-4AAB-BAC0-1672838006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2560" cy="452448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064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0640" y="39636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58B95-5BFB-4C16-8D9D-747F8249C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0640" y="1600200"/>
            <a:ext cx="401256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3120" cy="2157840"/>
          </a:xfrm>
          <a:prstGeom prst="rect">
            <a:avLst/>
          </a:prstGeom>
          <a:noFill/>
          <a:ln w="0">
            <a:noFill/>
          </a:ln>
        </p:spPr>
        <p:txBody>
          <a:bodyPr lIns="90000" rIns="90000" tIns="46800" bIns="46800" anchor="t">
            <a:normAutofit/>
          </a:bodyPr>
          <a:p>
            <a:pPr indent="0">
              <a:lnSpc>
                <a:spcPct val="7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6DEDF-A7D9-444E-A2A2-D4CC08613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de0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3120" cy="1432080"/>
          </a:xfrm>
          <a:prstGeom prst="rect">
            <a:avLst/>
          </a:prstGeom>
          <a:noFill/>
          <a:ln w="0">
            <a:noFill/>
          </a:ln>
        </p:spPr>
        <p:txBody>
          <a:bodyPr lIns="90000" rIns="90000" tIns="46800" bIns="4680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3120" cy="4524480"/>
          </a:xfrm>
          <a:prstGeom prst="rect">
            <a:avLst/>
          </a:prstGeom>
          <a:noFill/>
          <a:ln w="0">
            <a:noFill/>
          </a:ln>
        </p:spPr>
        <p:txBody>
          <a:bodyPr lIns="90000" rIns="90000" tIns="46800" bIns="46800" anchor="t">
            <a:normAutofit/>
          </a:bodyPr>
          <a:p>
            <a:pPr marL="336600" indent="-336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6560" indent="-27936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76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27240" cy="47160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CF63DE-3756-487C-B59E-5A2BC5E137B2}" type="slidenum">
              <a:rPr b="0" lang="en-GB"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Text Box 1"/>
          <p:cNvSpPr/>
          <p:nvPr/>
        </p:nvSpPr>
        <p:spPr>
          <a:xfrm>
            <a:off x="1405080" y="2373480"/>
            <a:ext cx="759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5400" spc="-1" strike="noStrike">
                <a:solidFill>
                  <a:srgbClr val="000000"/>
                </a:solidFill>
                <a:latin typeface="Arial"/>
                <a:ea typeface="Dotum"/>
              </a:rPr>
              <a:t>1.2 O conceito de organismo universal</a:t>
            </a:r>
            <a:endParaRPr b="0" lang="en-US" sz="5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4425840" y="180360"/>
            <a:ext cx="4467240" cy="588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Crítica à tradição e retorno à experiência</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metafísica implícita na idéia de organismo universal recebe pouco a pouco um conteúdo empírico. Em Paracelso há grande valorização da experiência contra a cultura livresca e a autoridade filosófica da escolástica.</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experiência sensível direta aparece como a única proteção e o único ponto de apoio contra a arbitrariedade da tradição e da especulação. Pode-se perceber o mesmo objeto de crítica em Descartes, mas apoiado em algo oposto ao que busca Paracelso – a prova da realidade substancial da natureza em Descartes são ideias inatas na razão.</a:t>
            </a:r>
            <a:endParaRPr b="0" lang="en-US" sz="1900" spc="-1" strike="noStrike">
              <a:solidFill>
                <a:srgbClr val="ffffff"/>
              </a:solidFill>
              <a:latin typeface="Arial"/>
            </a:endParaRPr>
          </a:p>
        </p:txBody>
      </p:sp>
      <p:pic>
        <p:nvPicPr>
          <p:cNvPr id="69" name="Imagem 1" descr=""/>
          <p:cNvPicPr/>
          <p:nvPr/>
        </p:nvPicPr>
        <p:blipFill>
          <a:blip r:embed="rId1"/>
          <a:stretch/>
        </p:blipFill>
        <p:spPr>
          <a:xfrm>
            <a:off x="468360" y="150840"/>
            <a:ext cx="3376440" cy="5280120"/>
          </a:xfrm>
          <a:prstGeom prst="rect">
            <a:avLst/>
          </a:prstGeom>
          <a:ln w="0">
            <a:noFill/>
          </a:ln>
        </p:spPr>
      </p:pic>
      <p:sp>
        <p:nvSpPr>
          <p:cNvPr id="70" name="Text Box 4"/>
          <p:cNvSpPr/>
          <p:nvPr/>
        </p:nvSpPr>
        <p:spPr>
          <a:xfrm>
            <a:off x="324000" y="5516640"/>
            <a:ext cx="40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Paracelsus</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ilipe Aurélio Teofrasto Bombastus von Hohenheim) (1493- 1541)</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689040" y="357120"/>
            <a:ext cx="781200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Em Petrus Bonus de Ferrara, alquimista do período, lemos o seguinte:</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Se desejas saber que a pimenta é quente e o vinagre refrescante; que a coloquíntida [</a:t>
            </a:r>
            <a:r>
              <a:rPr b="0" i="1" lang="en-GB" sz="1900" spc="-1" strike="noStrike">
                <a:solidFill>
                  <a:srgbClr val="000000"/>
                </a:solidFill>
                <a:latin typeface="Arial"/>
              </a:rPr>
              <a:t>Cucurbita pepo</a:t>
            </a:r>
            <a:r>
              <a:rPr b="0" lang="en-GB" sz="1900" spc="-1" strike="noStrike">
                <a:solidFill>
                  <a:srgbClr val="000000"/>
                </a:solidFill>
                <a:latin typeface="Arial"/>
              </a:rPr>
              <a:t>] e a losna [</a:t>
            </a:r>
            <a:r>
              <a:rPr b="0" i="1" lang="en-GB" sz="1900" spc="-1" strike="noStrike">
                <a:solidFill>
                  <a:srgbClr val="000000"/>
                </a:solidFill>
                <a:latin typeface="Arial"/>
              </a:rPr>
              <a:t>Artemisia absinthium</a:t>
            </a:r>
            <a:r>
              <a:rPr b="0" lang="en-GB" sz="1900" spc="-1" strike="noStrike">
                <a:solidFill>
                  <a:srgbClr val="000000"/>
                </a:solidFill>
                <a:latin typeface="Arial"/>
              </a:rPr>
              <a:t>] são amargas, o mel doce e o acônito [</a:t>
            </a:r>
            <a:r>
              <a:rPr b="0" i="1" lang="en-GB" sz="1900" spc="-1" strike="noStrike">
                <a:solidFill>
                  <a:srgbClr val="000000"/>
                </a:solidFill>
                <a:latin typeface="Arial"/>
              </a:rPr>
              <a:t>Aconitum napellus</a:t>
            </a:r>
            <a:r>
              <a:rPr b="0" lang="en-GB" sz="1900" spc="-1" strike="noStrike">
                <a:solidFill>
                  <a:srgbClr val="000000"/>
                </a:solidFill>
                <a:latin typeface="Arial"/>
              </a:rPr>
              <a:t>] venenoso; que o imã atrai o aço, o arsênico embranquece o latão e a atutía [Óxido de zinco] o torna de uma cor alaranjada, em cada um desses casos deverás verificar a asserção por meio de uma experiência. O mesmo vale para a geometria, a astronomia, a música, a perspectiva e outras ciências que têm uma finalidade e um campo de ação prática. Uma regra similar se aplica com dupla razão na alquimia, a qual pretende transmutar os metais comuns em ouro e prata [...] A verdade e a justiça desta afirmação, como todas as proposições de natureza prática, têm que ser demonstradas mediante um experimento prático e não pode ser demonstrada satisfatoriamente de outra maneira"</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900" spc="-1" strike="noStrike">
                <a:solidFill>
                  <a:srgbClr val="000000"/>
                </a:solidFill>
                <a:latin typeface="Arial"/>
              </a:rPr>
              <a:t>The New Pearl of Great Price. A treatise concerning the treasure and most precious stone of the philosopher. On the method and procedure of this divine art </a:t>
            </a:r>
            <a:r>
              <a:rPr b="0" lang="en-GB" sz="1900" spc="-1" strike="noStrike">
                <a:solidFill>
                  <a:srgbClr val="000000"/>
                </a:solidFill>
                <a:latin typeface="Arial"/>
              </a:rPr>
              <a:t>etc. (Apud Debus, p. 46).</a:t>
            </a:r>
            <a:endParaRPr b="0" lang="en-US" sz="19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ixaDeTexto 2"/>
          <p:cNvSpPr/>
          <p:nvPr/>
        </p:nvSpPr>
        <p:spPr>
          <a:xfrm>
            <a:off x="285840" y="1484280"/>
            <a:ext cx="4717800" cy="1136160"/>
          </a:xfrm>
          <a:prstGeom prst="rect">
            <a:avLst/>
          </a:prstGeom>
          <a:noFill/>
          <a:ln w="0">
            <a:noFill/>
          </a:ln>
        </p:spPr>
        <p:style>
          <a:lnRef idx="0"/>
          <a:fillRef idx="0"/>
          <a:effectRef idx="0"/>
          <a:fontRef idx="minor"/>
        </p:style>
        <p:txBody>
          <a:bodyPr lIns="90000" rIns="90000" tIns="46800" bIns="46800" anchor="t">
            <a:spAutoFit/>
          </a:bodyPr>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A  filosofia química:</a:t>
            </a:r>
            <a:endParaRPr b="0" lang="en-US" sz="1800" spc="-1" strike="noStrike">
              <a:solidFill>
                <a:srgbClr val="ffffff"/>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Debus, A. </a:t>
            </a:r>
            <a:r>
              <a:rPr b="0" i="1" lang="pt-BR" sz="1800" spc="-1" strike="noStrike">
                <a:solidFill>
                  <a:srgbClr val="000000"/>
                </a:solidFill>
                <a:latin typeface="Arial"/>
              </a:rPr>
              <a:t>The chemical philosophy: paracelsian science and medicine in the sixteenth and seventeenth centuries</a:t>
            </a:r>
            <a:r>
              <a:rPr b="0" lang="pt-BR" sz="1800" spc="-1" strike="noStrike">
                <a:solidFill>
                  <a:srgbClr val="000000"/>
                </a:solidFill>
                <a:latin typeface="Arial"/>
              </a:rPr>
              <a:t>, 1977. Capítulo 2 “The chemical philosophy”.</a:t>
            </a:r>
            <a:endParaRPr b="0" lang="en-US" sz="1800" spc="-1" strike="noStrike">
              <a:solidFill>
                <a:srgbClr val="ffffff"/>
              </a:solidFill>
              <a:latin typeface="Arial"/>
            </a:endParaRPr>
          </a:p>
        </p:txBody>
      </p:sp>
      <p:pic>
        <p:nvPicPr>
          <p:cNvPr id="73" name="Picture 4" descr="http://weiserantiquarian.com/catalogfortysix/35262.jpg"/>
          <p:cNvPicPr/>
          <p:nvPr/>
        </p:nvPicPr>
        <p:blipFill>
          <a:blip r:embed="rId1"/>
          <a:stretch/>
        </p:blipFill>
        <p:spPr>
          <a:xfrm>
            <a:off x="5219640" y="1386000"/>
            <a:ext cx="3816360" cy="5356080"/>
          </a:xfrm>
          <a:prstGeom prst="rect">
            <a:avLst/>
          </a:prstGeom>
          <a:ln w="0">
            <a:noFill/>
          </a:ln>
        </p:spPr>
      </p:pic>
      <p:sp>
        <p:nvSpPr>
          <p:cNvPr id="74" name="CaixaDeTexto 2"/>
          <p:cNvSpPr/>
          <p:nvPr/>
        </p:nvSpPr>
        <p:spPr>
          <a:xfrm>
            <a:off x="324000" y="2781360"/>
            <a:ext cx="4752720" cy="3867120"/>
          </a:xfrm>
          <a:prstGeom prst="rect">
            <a:avLst/>
          </a:prstGeom>
          <a:noFill/>
          <a:ln w="0">
            <a:noFill/>
          </a:ln>
        </p:spPr>
        <p:style>
          <a:lnRef idx="0"/>
          <a:fillRef idx="0"/>
          <a:effectRef idx="0"/>
          <a:fontRef idx="minor"/>
        </p:style>
        <p:txBody>
          <a:bodyPr lIns="90000" rIns="90000" tIns="46800" bIns="46800" anchor="t">
            <a:spAutoFit/>
          </a:bodyPr>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Nos séculos XVI e XVII uma nova filosofia natural aparece intimamente relacionada com a química. Ela é utilizada como modelo para uma imagem de natureza como um </a:t>
            </a:r>
            <a:r>
              <a:rPr b="0" i="1" lang="pt-BR" sz="1800" spc="-1" strike="noStrike">
                <a:solidFill>
                  <a:srgbClr val="000000"/>
                </a:solidFill>
                <a:latin typeface="Arial"/>
              </a:rPr>
              <a:t>cosmo químico</a:t>
            </a:r>
            <a:r>
              <a:rPr b="0" lang="pt-BR" sz="1800" spc="-1" strike="noStrike">
                <a:solidFill>
                  <a:srgbClr val="000000"/>
                </a:solidFill>
                <a:latin typeface="Arial"/>
              </a:rPr>
              <a:t>.</a:t>
            </a: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Annibal Barlet. </a:t>
            </a:r>
            <a:r>
              <a:rPr b="0" lang="fr-FR" sz="1400" spc="-1" strike="noStrike">
                <a:solidFill>
                  <a:srgbClr val="000000"/>
                </a:solidFill>
                <a:latin typeface="Arial"/>
              </a:rPr>
              <a:t>Le vray et methodique cours de la physique resolutive vulgairement dite chymie pour connoistre la theotechnie ergocosmique, c'est à dire, l'art de Dieu en l'ouvrage de l'univers. Paris, 1651.</a:t>
            </a:r>
            <a:endParaRPr b="0" lang="en-US" sz="1400" spc="-1" strike="noStrike">
              <a:solidFill>
                <a:srgbClr val="ffffff"/>
              </a:solidFill>
              <a:latin typeface="Arial"/>
            </a:endParaRPr>
          </a:p>
        </p:txBody>
      </p:sp>
      <p:sp>
        <p:nvSpPr>
          <p:cNvPr id="75" name="Rectangle 1"/>
          <p:cNvSpPr/>
          <p:nvPr/>
        </p:nvSpPr>
        <p:spPr>
          <a:xfrm>
            <a:off x="250920" y="263520"/>
            <a:ext cx="8821800" cy="67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s processo alquímicos presentes na criação poderiam ser reproduzidos </a:t>
            </a:r>
            <a:r>
              <a:rPr b="0" i="1" lang="en-GB" sz="1900" spc="-1" strike="noStrike">
                <a:solidFill>
                  <a:srgbClr val="000000"/>
                </a:solidFill>
                <a:latin typeface="Arial"/>
              </a:rPr>
              <a:t>artificialmente</a:t>
            </a:r>
            <a:r>
              <a:rPr b="0" lang="en-GB" sz="1900" spc="-1" strike="noStrike">
                <a:solidFill>
                  <a:srgbClr val="000000"/>
                </a:solidFill>
                <a:latin typeface="Arial"/>
              </a:rPr>
              <a:t> (o alquimista deve imitar a natureza) no laboratório.</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214200" y="285840"/>
            <a:ext cx="8715600" cy="588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ea typeface="Arial"/>
              </a:rPr>
              <a:t>Interações entre subjetivo e objetivo</a:t>
            </a: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ea typeface="Arial"/>
              </a:rPr>
              <a:t>Esta combinação de elementos naturais e subjetivos, do mundo exterior e do eu, interpreta o voltar-se para a natureza como um jogo interno-externo que é designado ainda confusamente como voltar à experiência.</a:t>
            </a: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ea typeface="Arial"/>
              </a:rPr>
              <a:t>Paracelso e os demais pensadores do período "invocam a realidade sensível externa na qual aspiram penetrar e à qual querem entregar-se plenamente, mas todos reconhecem, ao mesmo tempo, na imagem com que aqui se encontram, o reflexo de seu próprio 'espírito'. Postula-se e intui-se, com obscuro pressentimento, a identidade do 'subjetivo' e do 'objetivo'. Mas como a ciência não alcançou ainda o grau de maturidade necessário para poder apoiar ou guiar este postulado, é a mística a única que, em última instância, pode aplacar a sede de unidade do conhecimento" (Cassirer, p. 246).</a:t>
            </a: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ea typeface="Arial"/>
              </a:rPr>
              <a:t>O empirismo pode dar tanta importância às sensações que conduza a uma entrega completa às mesmas na forma de uma fusão mística com o mundo – que recebe matizes materialistas, mas não como uma espécie de materialismo "consciente“.</a:t>
            </a:r>
            <a:endParaRPr b="0" lang="en-US" sz="1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571680" y="285840"/>
            <a:ext cx="813744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onclusão</a:t>
            </a: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Como vimos, a ligação entre o inteligível e o sensível conta com a noção de força que confere um ingrediente especial para a construção de uma noção de natureza que será incorporada à imagem científica do mundo: aquela na qual forças autônomas atuam por si só – neste caso é a necessidade ligada à gênese que garante esse elemento.</a:t>
            </a: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é que ponto a ação desta força evolutiva ainda está em curso no mundo tal como é visto fenomenicamente? Esta força ainda estaria atualizando novas categorias de seres, novas para nós, mas preexistentes como idéias no mundo inteligível?</a:t>
            </a: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Uma resposta cada vez mais afirmativa a esta última questão nos remete às sucessivas aproximações de uma noção científica de evolução, na qual as forças evolutivas são reguladas por leis integralmente naturais, sem qualquer vínculo com uma instância mítica, religiosa ou metafísica das origens.</a:t>
            </a: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Mas a evolução no sentido cosmológico-ontológico, que cria a linha de continuidade entre o inteligível e o sensível, também reflete-se no plano da psicologia do conhecimento: há uma tentativa de fundamentar uma teoria do conhecimento sobre a identidade entre o subjetivo e o objetivo.</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85840" y="746640"/>
            <a:ext cx="850104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rPr>
              <a:t>Evolução no sentido neoplatônico</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conceito de evolução, para Cassirer, abarca "por igual a história da natureza e a do espírito" e, com isso, "parece encerrar e resolver em uma fórmula metafísica comum os problemas derivados de uma e de outra" (p. 227-8). Há uma espécie de união entre a "marcha da natureza" e a "marcha do espírito", chave para as aproximações entre história natural e história cultural. Com o conceito de evolução articulado ao de Cadeia do Ser, o desenvolvimento dos objetos materiais e do espírito podem ser avaliados sob um mesmo conceito.</a:t>
            </a: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24000" y="3213000"/>
            <a:ext cx="849780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Rectangle 2"/>
          <p:cNvSpPr/>
          <p:nvPr/>
        </p:nvSpPr>
        <p:spPr>
          <a:xfrm>
            <a:off x="250920" y="517680"/>
            <a:ext cx="8893080" cy="501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Natureza, história e evolução: a cadeia do ser</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ligação entre o inteligível e o sensível conta com a noção de força, na qual o ser absoluto está em uma atividade pura, formada por graus – é ele que produz o mundo das coisas. Esta divisão por graus de atividade do ser gerou um cosmo ordenado na forma de uma Cadeia do Ser. A ação desta força já confere, por si só, um ingrediente especial para a construção de uma noção de natureza que será incorporada à imagem científica do mundo: aquela na qual forças autônomas atuam por si só – neste caso é a necessidade ligada à gênese que garante esse elemento.</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evolução no sentido cosmológico-ontológico, que cria a linha de continuidade entre o inteligível e o sensível, também reflete-se no plano da psicologia do conhecimento: a tentativa de fundamentar uma teoria do conhecimento sobre a identidade entre o subjetivo e o objetivo (lembrando que tal continuidade envolve à contraposição entre conhecimento ingênuo e científico exposto na </a:t>
            </a:r>
            <a:r>
              <a:rPr b="0" i="1" lang="en-GB" sz="1900" spc="-1" strike="noStrike">
                <a:solidFill>
                  <a:srgbClr val="000000"/>
                </a:solidFill>
                <a:latin typeface="Arial"/>
              </a:rPr>
              <a:t>Introdução)</a:t>
            </a:r>
            <a:r>
              <a:rPr b="0" lang="en-GB" sz="1900" spc="-1" strike="noStrike">
                <a:solidFill>
                  <a:srgbClr val="000000"/>
                </a:solidFill>
                <a:latin typeface="Arial"/>
              </a:rPr>
              <a:t>.</a:t>
            </a:r>
            <a:endParaRPr b="0" lang="en-US" sz="19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0"/>
            <a:ext cx="5599080" cy="5805360"/>
          </a:xfrm>
          <a:prstGeom prst="rect">
            <a:avLst/>
          </a:prstGeom>
          <a:ln w="0">
            <a:noFill/>
          </a:ln>
        </p:spPr>
      </p:pic>
      <p:pic>
        <p:nvPicPr>
          <p:cNvPr id="57" name="Picture 2" descr=""/>
          <p:cNvPicPr/>
          <p:nvPr/>
        </p:nvPicPr>
        <p:blipFill>
          <a:blip r:embed="rId2"/>
          <a:stretch/>
        </p:blipFill>
        <p:spPr>
          <a:xfrm>
            <a:off x="5773680" y="0"/>
            <a:ext cx="3370320" cy="5805360"/>
          </a:xfrm>
          <a:prstGeom prst="rect">
            <a:avLst/>
          </a:prstGeom>
          <a:ln w="0">
            <a:noFill/>
          </a:ln>
        </p:spPr>
      </p:pic>
      <p:sp>
        <p:nvSpPr>
          <p:cNvPr id="58" name="Rectangle 3"/>
          <p:cNvSpPr/>
          <p:nvPr/>
        </p:nvSpPr>
        <p:spPr>
          <a:xfrm>
            <a:off x="0" y="5888520"/>
            <a:ext cx="91440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A cadeia do ser</a:t>
            </a:r>
            <a:endParaRPr b="0" lang="en-US" sz="2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Charles Bonnet</a:t>
            </a:r>
            <a:r>
              <a:rPr b="0" i="1" lang="en-GB" sz="2200" spc="-1" strike="noStrike">
                <a:solidFill>
                  <a:srgbClr val="000000"/>
                </a:solidFill>
                <a:latin typeface="Arial"/>
              </a:rPr>
              <a:t>,</a:t>
            </a:r>
            <a:r>
              <a:rPr b="0" lang="en-GB" sz="2200" spc="-1" strike="noStrike">
                <a:solidFill>
                  <a:srgbClr val="000000"/>
                </a:solidFill>
                <a:latin typeface="Arial"/>
              </a:rPr>
              <a:t> </a:t>
            </a:r>
            <a:r>
              <a:rPr b="0" i="1" lang="en-GB" sz="2200" spc="-1" strike="noStrike">
                <a:solidFill>
                  <a:srgbClr val="000000"/>
                </a:solidFill>
                <a:latin typeface="Arial"/>
              </a:rPr>
              <a:t>Œuvres d'histoire naturelle et de philosophie </a:t>
            </a:r>
            <a:r>
              <a:rPr b="0" lang="en-GB" sz="2200" spc="-1" strike="noStrike">
                <a:solidFill>
                  <a:srgbClr val="000000"/>
                </a:solidFill>
                <a:latin typeface="Arial"/>
              </a:rPr>
              <a:t>(1779-83)</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324000" y="260280"/>
            <a:ext cx="4038480" cy="641736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HOMEM</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Orangotango</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Macaco</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QUADRÚPEDE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Esquilo voador</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Morcego</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Avestruz</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ÁSSARO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ássaros aquático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Aves anfíbia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eixe voador</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EIXE</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eixe rastejante</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Enguia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Cobras aquática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RÉPTEI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Lesma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Caracói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MOLUSCO</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Vermes tubulare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Mariposa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INSETO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Inseto-galha</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Solitária</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Pólipos</a:t>
            </a:r>
            <a:endParaRPr b="0" lang="en-US" sz="1600" spc="-1" strike="noStrike">
              <a:solidFill>
                <a:srgbClr val="ffffff"/>
              </a:solidFill>
              <a:latin typeface="Arial"/>
            </a:endParaRPr>
          </a:p>
          <a:p>
            <a:pPr marL="336600" indent="-336600">
              <a:lnSpc>
                <a:spcPct val="80000"/>
              </a:lnSpc>
              <a:spcBef>
                <a:spcPts val="4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600" spc="-1" strike="noStrike">
                <a:solidFill>
                  <a:srgbClr val="000000"/>
                </a:solidFill>
                <a:latin typeface="Arial"/>
              </a:rPr>
              <a:t>Anêmonas-do-mar</a:t>
            </a:r>
            <a:endParaRPr b="0" lang="en-US" sz="1600" spc="-1" strike="noStrike">
              <a:solidFill>
                <a:srgbClr val="ffffff"/>
              </a:solidFill>
              <a:latin typeface="Arial"/>
            </a:endParaRPr>
          </a:p>
        </p:txBody>
      </p:sp>
      <p:sp>
        <p:nvSpPr>
          <p:cNvPr id="60" name="Text Box 2"/>
          <p:cNvSpPr/>
          <p:nvPr/>
        </p:nvSpPr>
        <p:spPr>
          <a:xfrm>
            <a:off x="4572000" y="260280"/>
            <a:ext cx="4038480" cy="625752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Plantas sensitiv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PLANT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Líquen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Bolore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Cogumelos, Agárico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Truf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Corais, Coralóide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Litófito</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Asbestos, Amianto</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Talcos, Gypso, Selenit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Ardósi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PEDR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Pedras figurad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Cristalizaçõe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Sai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Vitríolo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METAI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Semi-Metai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ENXOFRE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Betume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TERR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Terras puras</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ÁGUA</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AR</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FOGO</a:t>
            </a:r>
            <a:endParaRPr b="0" lang="en-US" sz="1500" spc="-1" strike="noStrike">
              <a:solidFill>
                <a:srgbClr val="ffffff"/>
              </a:solidFill>
              <a:latin typeface="Arial"/>
            </a:endParaRPr>
          </a:p>
          <a:p>
            <a:pPr marL="336600" indent="-336600">
              <a:lnSpc>
                <a:spcPct val="80000"/>
              </a:lnSpc>
              <a:spcBef>
                <a:spcPts val="374"/>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n-GB" sz="1500" spc="-1" strike="noStrike">
                <a:solidFill>
                  <a:srgbClr val="000000"/>
                </a:solidFill>
                <a:latin typeface="Arial"/>
              </a:rPr>
              <a:t>MATÉRIAS MAIS SUTIS</a:t>
            </a:r>
            <a:endParaRPr b="0" lang="en-US" sz="1500" spc="-1" strike="noStrike">
              <a:solidFill>
                <a:srgbClr val="ffffff"/>
              </a:solidFill>
              <a:latin typeface="Arial"/>
            </a:endParaRPr>
          </a:p>
          <a:p>
            <a:pPr marL="336600" indent="-336600">
              <a:lnSpc>
                <a:spcPct val="80000"/>
              </a:lnSpc>
              <a:spcBef>
                <a:spcPts val="374"/>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15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611280" y="214560"/>
            <a:ext cx="8101080" cy="646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t>
            </a:r>
            <a:r>
              <a:rPr b="0" lang="en-GB" sz="1900" spc="-1" strike="noStrike">
                <a:solidFill>
                  <a:srgbClr val="000000"/>
                </a:solidFill>
                <a:latin typeface="Arial"/>
              </a:rPr>
              <a:t>Começando por nós e indo até as coisas mais baixas, é uma descida que se opera através de graus muito pequenos, por uma seqüência continuada das coisas, que em cada distanciamento diferem muito pouco uma da outra. Existem peixes que têm asa, e para os quais o ar não é estranho, por outra parte, pássaros que habitam na água, que têm o sangue frio como os peixes, e cuja carne se assemelha tanto à dos peixes no gosto que se permite aos escrupulosos comê-las em dias de abstinência. Existem animais que se aproximam tanto da espécie dos pássaros e da dos animais, que estão situados a meio caminho entre ambos. Os anfíbios têm algo dos animais terrestres e algo dos aquáticos. Os corvos marinhos vivem na terra e no mar; e os marsuínos (cujo nome significa porco do mar) têm o sangue quente e as entranhas de um suíno. Isto para não falar do que se conta dos homens marinhos; existem animais que parecem possuir tanto conhecimento e tanta razão quanto alguns animais racionais que se denominam homens. Existem outrossim uma proximidade tão grande entre os animais e os vegetais que, se tomarmos o que existe de mais imperfeito nos animais e o mais perfeito  nos vegetais será difícil notar alguma diferença considerável entre uns e outros. Assim, até que cheguemos às partes mais baixas e menos organizadas da matéria, veremos em toda parte que as espécies estão ligadas entre si e diferem tão-somente por graus quase insensíveis” Leibniz, </a:t>
            </a:r>
            <a:r>
              <a:rPr b="0" i="1" lang="en-GB" sz="1900" spc="-1" strike="noStrike">
                <a:solidFill>
                  <a:srgbClr val="000000"/>
                </a:solidFill>
                <a:latin typeface="Arial"/>
              </a:rPr>
              <a:t>Novos ensaios sobre o entendimento humano</a:t>
            </a:r>
            <a:r>
              <a:rPr b="0" lang="en-GB" sz="1900" spc="-1" strike="noStrike">
                <a:solidFill>
                  <a:srgbClr val="000000"/>
                </a:solidFill>
                <a:latin typeface="Arial"/>
              </a:rPr>
              <a:t> (Cap.  VI,  §.12)</a:t>
            </a:r>
            <a:endParaRPr b="0" lang="en-US" sz="1900" spc="-1" strike="noStrike">
              <a:solidFill>
                <a:srgbClr val="ffffff"/>
              </a:solidFill>
              <a:latin typeface="Arial"/>
            </a:endParaRPr>
          </a:p>
        </p:txBody>
      </p:sp>
      <p:sp>
        <p:nvSpPr>
          <p:cNvPr id="62" name="Text Box 2"/>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85840" y="253440"/>
            <a:ext cx="8643960" cy="6314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Cada mudança ocorrida no universo possui uma relação imanente com todas as demais; se o todo sempre precede às suas partes, a dissociação (análise) do concreto é apenas abstrata: a realidade é contínua. (Cassirer, p. 228)</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Há um intercâmbio dos sentidos lógico e ontológico da precedência do todo em relação às partes:</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	</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a) A idéia (lógica) de condicionalidade mútua entre as partes: o todo é sempre anterior (logicamente) à suas partes.</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	</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b) A intuição (sensível) de um universo vivo em sua totalidade: o todo é um organismo vivo.</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c) A idéia lógica da relação abstrata entre parte e todo se transforma na intuição concreta de um universo vivo em sua totalidade.</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d) Estes dois sentidos ou fatores fazem parte do mesmo complexo superior de vida: a ideia e o ser concreto atuam entre si.</a:t>
            </a: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700" spc="-1" strike="noStrike">
                <a:solidFill>
                  <a:srgbClr val="000000"/>
                </a:solidFill>
                <a:latin typeface="Arial"/>
              </a:rPr>
              <a:t>	</a:t>
            </a:r>
            <a:r>
              <a:rPr b="0" lang="en-GB" sz="1700" spc="-1" strike="noStrike">
                <a:solidFill>
                  <a:srgbClr val="000000"/>
                </a:solidFill>
                <a:latin typeface="Arial"/>
              </a:rPr>
              <a:t>(e) A mútua condicionalidade das partes é ostensiva – expressa ou demonstrada diretamente – no universo vivo em sua totalidade: “percebemos” a relação lógica diretamente através da intuição (sensível); este procedimento metódico situa o problema do conhecimento nas origens da cultura moderna em uma articulação orgânica entre os aspectos concreto e abstrato da realidade e de seu conhecimento.</a:t>
            </a:r>
            <a:endParaRPr b="0" lang="en-US" sz="1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179280" y="921960"/>
            <a:ext cx="87854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rPr>
              <a:t>Aprofundamento do sentido neoplatônico de evolução:</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rPr>
              <a:t>Estudo do texto “Natureza, história e evolução: a cadeia do ser”.</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322200" y="309960"/>
            <a:ext cx="4535640" cy="472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Evolução emanativa e alquimia</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criação era uma espécie de revelação química da natureza. O gênese bíblico é descrito à luz na nova química e a criação é apresentada como um conjunto de processos alquímicos: extração, separação, sublimação e conjunção.</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criação naturalizada produz uma natureza dotada de forças utilizáveis pelo homem; nela revela-se o aspecto técnico desse retorno à natureza e da valorização da observação-sensação-experiência.</a:t>
            </a:r>
            <a:endParaRPr b="0" lang="en-US" sz="1900" spc="-1" strike="noStrike">
              <a:solidFill>
                <a:srgbClr val="ffffff"/>
              </a:solidFill>
              <a:latin typeface="Arial"/>
            </a:endParaRPr>
          </a:p>
        </p:txBody>
      </p:sp>
      <p:pic>
        <p:nvPicPr>
          <p:cNvPr id="66" name="Picture 2" descr=""/>
          <p:cNvPicPr/>
          <p:nvPr/>
        </p:nvPicPr>
        <p:blipFill>
          <a:blip r:embed="rId1"/>
          <a:stretch/>
        </p:blipFill>
        <p:spPr>
          <a:xfrm>
            <a:off x="5072040" y="142920"/>
            <a:ext cx="3817800" cy="6215040"/>
          </a:xfrm>
          <a:prstGeom prst="rect">
            <a:avLst/>
          </a:prstGeom>
          <a:ln w="0">
            <a:noFill/>
          </a:ln>
        </p:spPr>
      </p:pic>
      <p:sp>
        <p:nvSpPr>
          <p:cNvPr id="67" name="Text Box 3"/>
          <p:cNvSpPr/>
          <p:nvPr/>
        </p:nvSpPr>
        <p:spPr>
          <a:xfrm>
            <a:off x="4857840" y="6434280"/>
            <a:ext cx="44290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Robert Fludd, </a:t>
            </a:r>
            <a:r>
              <a:rPr b="1" i="1" lang="en-GB" sz="1800" spc="-1" strike="noStrike">
                <a:solidFill>
                  <a:srgbClr val="000000"/>
                </a:solidFill>
                <a:latin typeface="Arial"/>
              </a:rPr>
              <a:t>Utriusque Cosmi</a:t>
            </a:r>
            <a:r>
              <a:rPr b="1" lang="en-GB" sz="1800" spc="-1" strike="noStrike">
                <a:solidFill>
                  <a:srgbClr val="000000"/>
                </a:solidFill>
                <a:latin typeface="Arial"/>
              </a:rPr>
              <a:t>...,1617</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urício</dc:creator>
  <dc:description/>
  <dc:language>en-US</dc:language>
  <cp:lastModifiedBy>Mauricio de Carvalho Ramos</cp:lastModifiedBy>
  <dcterms:modified xsi:type="dcterms:W3CDTF">2018-05-16T15:47:02Z</dcterms:modified>
  <cp:revision>47</cp:revision>
  <dc:subject/>
  <dc:title>Slide 1</dc:title>
</cp:coreProperties>
</file>