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84760" y="0"/>
            <a:ext cx="2966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C8613-DBE9-4AE2-BA5B-33CFA950C8C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BECF8-7FC4-4734-9D83-124DF551023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F1766-253D-4B4A-BFC0-2DA21A1A49C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7FE9B-F37F-4248-B33F-A534EA9E4B1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88EAE-66BE-4754-A6F9-90DAEB4CC44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F4CD8-6B9E-497E-BD28-0A4117C3C7B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D8207-FD5C-45D1-9069-C29C8D6AE77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F4253-E556-4473-BD20-E8C754F1CAB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F9AE3-5061-41E6-8F85-7958295405C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B69F8-E929-44C0-B512-23D33F4B6B3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BC00C-E256-4DB0-987E-423CE533BAE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12BB9-37DE-4151-A0F6-84446F44E88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06C4B-8DD8-4515-896D-69D47244E82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A851B-6C9E-4D32-A1E4-666867B5950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18898-CC6C-45D0-AE98-044EDDB9000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E15AD-D8B9-4A9B-9E46-EFFF5FDBF24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E6F2D-D50B-458A-807E-6D58F8ED3A8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A54BC-4CF4-4461-A407-71493F3EF7D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15505-92F4-416D-95FA-D0A3DDAAAAA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30B0A-F11E-4D2B-853A-3E541968A6D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F11C7-F098-4884-9FCC-EAA76BE2220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CE5FA-3FF3-4237-BC49-4201E0716CF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3886A-DA0D-44E4-BF14-3B5BFF41787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6643C-5E80-4E6A-B8D0-CF470AF999E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B8688-BFA9-44F4-B40E-B64791E9797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5223A-880D-4A14-9629-48570640CC1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8E0C2-C589-4466-ABD4-2E0EDDD070B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A2006-614B-4974-B189-AD9DE825A58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FB1C0-9353-4753-83E2-E51C25ECDA4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A8EFA-C24C-444A-9EED-AF91D0A0E13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75959-A47E-47CE-9DC2-12BA92068DA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09AB9-49B8-42A8-8585-5AEFF190571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D0D99-0FAD-4B0C-8B3F-7CE5B583C7C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4BC6D-648A-415A-833A-32165982D90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EA441-FF97-43B9-BE7B-A15585B8B39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6596D-B935-4800-8208-89D5CBF68F2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7B3CB-E629-4741-9243-F8F82B82E15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F6906-5BD9-481D-B449-52784AB4F61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705CC-0E87-4138-BBF6-47E6B8A50BB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FCA68-A59B-4B17-BC65-215AB141F61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FFBE2-B715-4B8E-A039-E1E1B2D0950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0E54F-74FD-47A0-B012-C698B27C894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7DC82-1AB3-4919-BB9A-B4C95EF6511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B19D5-D947-4AEC-97DE-A4ED1E632AD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EAFCC-E99C-4FFD-8B9F-3E1D3932385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AFA8E-A0F4-458D-A168-CEE4DCC0710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150D2-3EC3-404D-8749-49707FF0CFC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11288-B851-4A20-95F4-6ED7EDC5A0D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C182C-CF91-4F65-9BA8-814FF167939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57D7F-9F5E-47E3-8690-E4257EDA1B9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CD65D-3DC0-4CD8-B7A7-95A9C0EBA27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8A3B1-1589-4577-8354-07A83F89308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0A029-4EE4-4CC0-BCAD-1948151D46B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1604D-7829-4212-9908-A9413B1AFE5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1DB1E-018E-467D-8D4C-70A0E9D799D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A9DE9-2C7E-4BDE-83D9-4CA0D4C9D9D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0FD62-2957-421E-8034-0C01B62BAC5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63D10-F8AC-4B7A-8BF2-02B1F296EF1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2ABC3-E529-41D4-931D-34F0EA1577E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EBD25-0DA5-42C4-8C20-248A009E9D2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F99B9-C06F-42ED-A9C2-6ADB6086FC8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2C40C-A6DA-45DD-AF33-4879B87CF13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5905C-E1EA-4074-B35B-7DBBEE5DF53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97673-0C5C-4AAB-B8A1-44D813518A2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A85DF-7E13-4EC3-BDF1-C2D815AE7A4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0597B-01A6-4A0E-B108-BB238BDD366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A8136-57DE-406C-AD51-42D9D36C0E2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AE0DB-8103-4042-9469-6B666F560A8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6BEEC-2141-4335-96B8-651490AFB77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B3789-8F54-40E2-9B84-E24B6924D3D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9F57-2345-479E-8FDB-3461F945F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1EBF-A367-4C9D-83A3-C969B7E53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36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226B-0A76-4412-885C-51D92ABE1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36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36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A653-C951-42AD-98A6-D9BC4E7256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EFA3-B38A-4984-A537-1BE960BB7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265B-1D88-4B56-8FC3-1DDF9A887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2477-6362-45F2-BC8A-DE85AA055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3B02-C451-4816-8D35-AC87F31DF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4480"/>
            <a:ext cx="822168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49D7-7B21-499A-AD3A-B8C243CD5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E5A5-710D-4BCC-8D2D-868FB90DA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36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DBE8-6455-4566-87FB-596C0338F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5801-4869-465A-81D8-FA4721042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1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7792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0720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6C2A07-C372-4DC3-9F39-D89702D7327A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84360" y="1077840"/>
            <a:ext cx="84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Arial"/>
                <a:ea typeface="Dotum"/>
              </a:rPr>
              <a:t>2. A </a:t>
            </a:r>
            <a:r>
              <a:rPr b="0" lang="pt-BR" sz="8800" spc="-1" strike="noStrike">
                <a:solidFill>
                  <a:srgbClr val="000000"/>
                </a:solidFill>
                <a:latin typeface="Arial"/>
                <a:ea typeface="Dotum"/>
              </a:rPr>
              <a:t>teoria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  <a:ea typeface="Dotum"/>
              </a:rPr>
              <a:t> psicológica do </a:t>
            </a:r>
            <a:r>
              <a:rPr b="0" lang="pt-BR" sz="8800" spc="-1" strike="noStrike">
                <a:solidFill>
                  <a:srgbClr val="000000"/>
                </a:solidFill>
                <a:latin typeface="Arial"/>
                <a:ea typeface="Dotum"/>
              </a:rPr>
              <a:t>conheciment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514440" y="461880"/>
            <a:ext cx="82008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Dotum"/>
              </a:rPr>
              <a:t>(1) Questão principal da psicologia de Fracastoro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Dotum"/>
              </a:rPr>
              <a:t>Como, da multidão dos conteúdos sensíveis concretos que preenchem nosso eu, a idéia do geral, do conceito universal pode nascer, separar-se e exigir a mesma substancialidade do conteúdo sensível? (p. 249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5462640" cy="6500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5786640" y="285840"/>
            <a:ext cx="30092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.-L. Moreau de Maupert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857920" y="785880"/>
            <a:ext cx="28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éflexions philosoph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ur l’origine des lan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 la signification des mo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175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000840" y="3454560"/>
            <a:ext cx="278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ação do mesmo problema de Fracastoro, mas de forma totalmente invertida na teoria do conhecimento do século XV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521000" y="428760"/>
            <a:ext cx="569412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14440" y="461880"/>
            <a:ext cx="82008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Dotum"/>
              </a:rPr>
              <a:t>A proposição “há uma árvore”, que pretende designar a percepção de uma realidade externa, não existiria se não houvesse a repetição de percepções; na proposição sobre a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  <a:ea typeface="Dotum"/>
              </a:rPr>
              <a:t>existênci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Dotum"/>
              </a:rPr>
              <a:t> das coisas não há nada além do que há em qualquer outra percepção (Ramos, 2009, p. 77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228600" y="298440"/>
            <a:ext cx="8643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Dotum"/>
              </a:rPr>
              <a:t>Fracastoro pode ser situado entre a escolástica e o pensamento modern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Dotum"/>
              </a:rPr>
              <a:t>Valorização da experiência e retorno ao contato direto com o mundo: papel importante das explicações do fenômeno da percepção e, daí, da formação do conhecimen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Dotum"/>
              </a:rPr>
              <a:t>Uso do conceito medieval das “espécies” para explicar o problema da percepçã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642960" y="214200"/>
            <a:ext cx="2357280" cy="157176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42960" y="3071880"/>
            <a:ext cx="2357280" cy="157140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681200" y="642960"/>
            <a:ext cx="8773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je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708200" y="3911760"/>
            <a:ext cx="8528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924640" y="2197080"/>
            <a:ext cx="9914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péc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857920" y="3214800"/>
            <a:ext cx="3711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357960" y="2562120"/>
            <a:ext cx="2357280" cy="157176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357960" y="4857840"/>
            <a:ext cx="2357280" cy="157140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357960" y="214200"/>
            <a:ext cx="2357280" cy="157176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AutoShape 10"/>
          <p:cNvCxnSpPr/>
          <p:nvPr/>
        </p:nvCxnSpPr>
        <p:spPr>
          <a:xfrm flipV="1">
            <a:off x="1141560" y="1356480"/>
            <a:ext cx="2160" cy="20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AutoShape 11"/>
          <p:cNvSpPr/>
          <p:nvPr/>
        </p:nvSpPr>
        <p:spPr>
          <a:xfrm>
            <a:off x="785880" y="3500280"/>
            <a:ext cx="357120" cy="285840"/>
          </a:xfrm>
          <a:prstGeom prst="triangle">
            <a:avLst>
              <a:gd name="adj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1000080" y="407196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1285920" y="3643200"/>
            <a:ext cx="28584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785880" y="357120"/>
            <a:ext cx="357120" cy="285840"/>
          </a:xfrm>
          <a:prstGeom prst="triangle">
            <a:avLst>
              <a:gd name="adj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5"/>
          <p:cNvSpPr/>
          <p:nvPr/>
        </p:nvSpPr>
        <p:spPr>
          <a:xfrm>
            <a:off x="1000080" y="928800"/>
            <a:ext cx="285840" cy="2854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1285920" y="500040"/>
            <a:ext cx="28584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AutoShape 17"/>
          <p:cNvCxnSpPr/>
          <p:nvPr/>
        </p:nvCxnSpPr>
        <p:spPr>
          <a:xfrm flipV="1">
            <a:off x="7571880" y="3785760"/>
            <a:ext cx="252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18"/>
          <p:cNvCxnSpPr/>
          <p:nvPr/>
        </p:nvCxnSpPr>
        <p:spPr>
          <a:xfrm flipV="1">
            <a:off x="7571880" y="1428120"/>
            <a:ext cx="252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19"/>
          <p:cNvSpPr/>
          <p:nvPr/>
        </p:nvSpPr>
        <p:spPr>
          <a:xfrm>
            <a:off x="5857920" y="714240"/>
            <a:ext cx="3711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5838840" y="5643720"/>
            <a:ext cx="3711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7429680" y="5643720"/>
            <a:ext cx="357120" cy="285480"/>
          </a:xfrm>
          <a:prstGeom prst="triangle">
            <a:avLst>
              <a:gd name="adj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2"/>
          <p:cNvSpPr/>
          <p:nvPr/>
        </p:nvSpPr>
        <p:spPr>
          <a:xfrm>
            <a:off x="7358040" y="714240"/>
            <a:ext cx="357120" cy="285840"/>
          </a:xfrm>
          <a:prstGeom prst="triangle">
            <a:avLst>
              <a:gd name="adj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7430040" y="3214800"/>
            <a:ext cx="30708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24"/>
          <p:cNvSpPr/>
          <p:nvPr/>
        </p:nvSpPr>
        <p:spPr>
          <a:xfrm>
            <a:off x="2500200" y="1214280"/>
            <a:ext cx="285840" cy="22860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2286000"/>
              <a:gd name="textAreaBottom" fmla="*/ 22788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2"/>
                  <a:pt x="10800" y="224"/>
                </a:cubicBezTo>
                <a:lnTo>
                  <a:pt x="10800" y="10576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2"/>
                  <a:pt x="10800" y="11024"/>
                </a:cubicBezTo>
                <a:lnTo>
                  <a:pt x="10800" y="21376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299880" y="4856040"/>
            <a:ext cx="47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otum"/>
              </a:rPr>
              <a:t>O conhecimento é obtido pela fixação de algo que passa dos objetos ao sujeito, não em sua própria identidade, mas como u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Dotum"/>
              </a:rPr>
              <a:t>símbolo sensív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otum"/>
              </a:rPr>
              <a:t> – ainda combin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Dotum"/>
              </a:rPr>
              <a:t>causalid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otum"/>
              </a:rPr>
              <a:t> 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Dotum"/>
              </a:rPr>
              <a:t>representaçã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otum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215040" y="1214280"/>
            <a:ext cx="2357640" cy="157176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215040" y="4071960"/>
            <a:ext cx="2357640" cy="157176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253640" y="1643040"/>
            <a:ext cx="7005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280280" y="4911840"/>
            <a:ext cx="8528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AutoShape 5"/>
          <p:cNvCxnSpPr/>
          <p:nvPr/>
        </p:nvCxnSpPr>
        <p:spPr>
          <a:xfrm flipV="1">
            <a:off x="7714800" y="2642760"/>
            <a:ext cx="252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AutoShape 6"/>
          <p:cNvSpPr/>
          <p:nvPr/>
        </p:nvSpPr>
        <p:spPr>
          <a:xfrm>
            <a:off x="6858000" y="4572000"/>
            <a:ext cx="357120" cy="285840"/>
          </a:xfrm>
          <a:prstGeom prst="triangle">
            <a:avLst>
              <a:gd name="adj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429240" y="50720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572240" y="4429080"/>
            <a:ext cx="28584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6858000" y="1500120"/>
            <a:ext cx="357120" cy="285840"/>
          </a:xfrm>
          <a:prstGeom prst="triangle">
            <a:avLst>
              <a:gd name="adj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6429240" y="1857240"/>
            <a:ext cx="285840" cy="285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7572240" y="2214720"/>
            <a:ext cx="285840" cy="285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AutoShape 12"/>
          <p:cNvCxnSpPr/>
          <p:nvPr/>
        </p:nvCxnSpPr>
        <p:spPr>
          <a:xfrm flipV="1">
            <a:off x="7071840" y="1928160"/>
            <a:ext cx="2520" cy="25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13"/>
          <p:cNvCxnSpPr/>
          <p:nvPr/>
        </p:nvCxnSpPr>
        <p:spPr>
          <a:xfrm flipV="1">
            <a:off x="6570720" y="2285640"/>
            <a:ext cx="2160" cy="26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Rectangle 14"/>
          <p:cNvSpPr/>
          <p:nvPr/>
        </p:nvSpPr>
        <p:spPr>
          <a:xfrm>
            <a:off x="357120" y="1641600"/>
            <a:ext cx="53578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alma é passiva no que se refere à captação do objeto como representaçã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alma é um conglomerado de imagens representativa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14200"/>
            <a:ext cx="85726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sta concepção contém um problema fundamental: como formar o conceito de uma consciência com uma psicologia incapaz de representar (a) os conceitos abstratos de relação e (b) os nexos causa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lução de Fracastoro: sua psicologia atribui à alma novos “órgãos” e atividades que funcionarão após a formação passiva do aglomerado de representações sensíve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 tal solução, o autor enfrenta a questão central apresentada no início: como são formados os conceitos universa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142920" y="1739880"/>
            <a:ext cx="8715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os superiores de articulação do pensamento na formação de conce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ção d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bnotio (subnoção)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pacidade da consciência de analisar em seus elementos parciais o que aparece primeiramente como um todo completo; da análise passa à formação de subnoções como uma passo anterior ao raciocínio implicado na formação dos conce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Forma “instintiva” de participação ativa do eu que não reproduz sensações, mas passa de uma a outra em seu processo de anál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Não realiza juízos lóg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ação passiva do aglomerado de sensações brutas;  combinação das sensações dos diversos sentidos formando uma unid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42920" y="166680"/>
            <a:ext cx="857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a) Introdução na alma de uma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gradação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 capacidades e formas de atividad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AutoShape 3"/>
          <p:cNvCxnSpPr/>
          <p:nvPr/>
        </p:nvCxnSpPr>
        <p:spPr>
          <a:xfrm flipV="1">
            <a:off x="4285800" y="485712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4"/>
          <p:cNvCxnSpPr/>
          <p:nvPr/>
        </p:nvCxnSpPr>
        <p:spPr>
          <a:xfrm flipV="1">
            <a:off x="4285800" y="214236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357120" y="214200"/>
            <a:ext cx="8572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Formação de conceitos e percepção dos obje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espécies não podem reproduzir de um modo direto o conteúdo do conceito, mas pode representá-lo simbolica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do pensamos no conceito, pensamos ao mesmo tempo, em seu interior, um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açã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uma das noções problemáticas da teoria psicológica do conhecimento) com todas as demais percepções análo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do conteúdo da consciência é singular e são apenas considerações subjetivas que torna esta singularidade em univer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071800" y="264636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Dotum"/>
              </a:rPr>
              <a:t>2.1 Introduçã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57120" y="214200"/>
            <a:ext cx="8572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á, assim, duas ordens de concei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ários: referem-se diretamente a objetos exteri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undários: referem-se a nossos predicados sobre os objetos nascidos de uma reflexão do entendimento sobre si me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ção nominalista: as classes estabelecidas por este processo não possuem valor maior do que os demais nomes estabelecidos convencional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57120" y="214200"/>
            <a:ext cx="85726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(2) Nova questão que emerge com a resposta da primei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 qual das duas ordens de conceitos enquadram-se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s próprias modalidades da atividade do espírit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ão se referem aos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bjetos exteri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b) Possuem um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ealidade imutáv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que se distingue dos nomes arbitrários a eles atribuí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operações do espírito são na alma como se fossem exteriormente, apresentando, então, caráter objetiv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214200"/>
            <a:ext cx="8572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caráter objetivo das operações do espírito parte-se para 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a da consciência de si mesm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para conceder realidade à alma, Fracastoro adota a tese de um intelecto uno e universal, rompendo com os esquemas de sua psicologia sensualista e com sua teoria do conhec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1"/>
          <p:cNvSpPr/>
          <p:nvPr/>
        </p:nvSpPr>
        <p:spPr>
          <a:xfrm>
            <a:off x="4286160" y="0"/>
            <a:ext cx="2214720" cy="15001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2"/>
          <p:cNvSpPr/>
          <p:nvPr/>
        </p:nvSpPr>
        <p:spPr>
          <a:xfrm>
            <a:off x="7000920" y="3214800"/>
            <a:ext cx="1857240" cy="1285920"/>
          </a:xfrm>
          <a:prstGeom prst="ellipse">
            <a:avLst/>
          </a:prstGeom>
          <a:solidFill>
            <a:srgbClr val="7fb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7000920" y="1500120"/>
            <a:ext cx="1857240" cy="1285920"/>
          </a:xfrm>
          <a:prstGeom prst="ellipse">
            <a:avLst/>
          </a:prstGeom>
          <a:solidFill>
            <a:srgbClr val="7fb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142920" y="4929120"/>
            <a:ext cx="2143080" cy="128592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3571920" y="4929120"/>
            <a:ext cx="2571840" cy="1643040"/>
          </a:xfrm>
          <a:prstGeom prst="ellipse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142920" y="428760"/>
            <a:ext cx="2000160" cy="257148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4786200" y="1785960"/>
            <a:ext cx="2000520" cy="1428840"/>
          </a:xfrm>
          <a:prstGeom prst="ellipse">
            <a:avLst/>
          </a:prstGeom>
          <a:solidFill>
            <a:srgbClr val="b9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2500200" y="1857240"/>
            <a:ext cx="1714680" cy="100044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2357280" y="3286080"/>
            <a:ext cx="2071800" cy="13572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10"/>
          <p:cNvCxnSpPr/>
          <p:nvPr/>
        </p:nvCxnSpPr>
        <p:spPr>
          <a:xfrm flipH="1" flipV="1">
            <a:off x="5214240" y="1142280"/>
            <a:ext cx="4294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11"/>
          <p:cNvCxnSpPr/>
          <p:nvPr/>
        </p:nvCxnSpPr>
        <p:spPr>
          <a:xfrm flipH="1" flipV="1">
            <a:off x="1071360" y="570960"/>
            <a:ext cx="428688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12"/>
          <p:cNvCxnSpPr/>
          <p:nvPr/>
        </p:nvCxnSpPr>
        <p:spPr>
          <a:xfrm flipH="1">
            <a:off x="3785400" y="1785960"/>
            <a:ext cx="715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13"/>
          <p:cNvCxnSpPr/>
          <p:nvPr/>
        </p:nvCxnSpPr>
        <p:spPr>
          <a:xfrm flipH="1">
            <a:off x="3355200" y="292896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14"/>
          <p:cNvCxnSpPr/>
          <p:nvPr/>
        </p:nvCxnSpPr>
        <p:spPr>
          <a:xfrm>
            <a:off x="1071720" y="2571840"/>
            <a:ext cx="72000" cy="257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15"/>
          <p:cNvCxnSpPr>
            <a:stCxn id="134" idx="3"/>
          </p:cNvCxnSpPr>
          <p:nvPr/>
        </p:nvCxnSpPr>
        <p:spPr>
          <a:xfrm>
            <a:off x="2071440" y="5603400"/>
            <a:ext cx="1857960" cy="4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16"/>
          <p:cNvCxnSpPr/>
          <p:nvPr/>
        </p:nvCxnSpPr>
        <p:spPr>
          <a:xfrm flipV="1">
            <a:off x="6429240" y="1856880"/>
            <a:ext cx="929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17"/>
          <p:cNvCxnSpPr/>
          <p:nvPr/>
        </p:nvCxnSpPr>
        <p:spPr>
          <a:xfrm>
            <a:off x="6357600" y="2785680"/>
            <a:ext cx="11437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Text Box 18"/>
          <p:cNvSpPr/>
          <p:nvPr/>
        </p:nvSpPr>
        <p:spPr>
          <a:xfrm>
            <a:off x="4502160" y="345960"/>
            <a:ext cx="1851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c2fff0"/>
                </a:solidFill>
                <a:latin typeface="Arial"/>
              </a:rPr>
              <a:t>Espírito de ord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c2fff0"/>
                </a:solidFill>
                <a:latin typeface="Arial"/>
              </a:rPr>
              <a:t>primária, mas s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c2fff0"/>
                </a:solidFill>
                <a:latin typeface="Arial"/>
              </a:rPr>
              <a:t>existência obje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000760" y="2203560"/>
            <a:ext cx="1633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pírito: divers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7143840" y="1962000"/>
            <a:ext cx="1714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presentações dos obje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2581200" y="2143080"/>
            <a:ext cx="1633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ciê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si mes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2500200" y="3643200"/>
            <a:ext cx="1785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nto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lexão 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oria psicoló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857760" y="5357880"/>
            <a:ext cx="21430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e de um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que não passou pelos sentidos (um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sicológic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214200" y="1143000"/>
            <a:ext cx="192888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bre a un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a própria existência da al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artir da psicologia sensualist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85840" y="5275440"/>
            <a:ext cx="1785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tulaçã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dade orgâ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 al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143840" y="3676680"/>
            <a:ext cx="171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presentações das cla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obje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28760" y="357120"/>
            <a:ext cx="835812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iderações finais anteri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a) Evolução no sentido cosmológico-ontológ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b) Continuidade entre o inteligível e o sensí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c) Reflexo no plano do conhecimento: identidade entre o subjetivo e o objetiv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57120" y="285840"/>
            <a:ext cx="87156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idéia de uma teoria psicológica do conhecim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a) Predomínio da observação direta e da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eriência concre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b) Primeiras reflexões sobre o processo e as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ndições de nascimento da própria experiência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 conhecimento científico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 experiência é construíd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00040" y="285840"/>
            <a:ext cx="85726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c) Dadas as disputas no plano do aristotelismo na busca do unidade do saber, tal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unida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pode ser alcançada somente na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otal reduçã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o objeto concreto que as sensações nos transmitem (no conhecimento “ingênuo”, a construção da experiência aponta para o objeto exterior dad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d) Criação de uma teoria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adical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 conhecimento fundada na natureza dos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cessos anímicos (psicologia) e de sua relação com outras partes da realidade (conheciment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976320" y="2646360"/>
            <a:ext cx="75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Dotum"/>
              </a:rPr>
              <a:t>2.2 Fracastor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857160" y="21420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irolamo Fracastoro (1478-153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24280" y="1297080"/>
            <a:ext cx="3219480" cy="44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714240" y="520560"/>
            <a:ext cx="7429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stória da ciência tradi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reditava que os fósseis eram restos orgânicos – diferentemente das teorias que utilizavam influxos astrais e vapores subterrâneos como causa das fossiliz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ou o term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ífi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 estudou tal patologia em profund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a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42960" y="285840"/>
            <a:ext cx="7429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 que as doenças eram causadas pela transferência d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emina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u sem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icou a infecção à distância através da modificação da teoria da “multiplicação das espécies”: durante a putrefação associada à enfermidade, pequenas partículas de contágio espalhavam-se no ambiente, do mesmo modo que as “espécies” atravessavam o meio circund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ria existir uma afinidade entre o infectante e o infectado para que as sementes realizassem o contágio à distâ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urício</dc:creator>
  <dc:description/>
  <dc:language>en-US</dc:language>
  <cp:lastModifiedBy>asus</cp:lastModifiedBy>
  <dcterms:modified xsi:type="dcterms:W3CDTF">2018-05-23T17:45:26Z</dcterms:modified>
  <cp:revision>45</cp:revision>
  <dc:subject/>
  <dc:title>Slide 1</dc:title>
</cp:coreProperties>
</file>